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0.png" ContentType="image/png"/>
  <Override PartName="/ppt/media/image39.png" ContentType="image/png"/>
  <Override PartName="/ppt/media/image37.png" ContentType="image/png"/>
  <Override PartName="/ppt/media/image36.png" ContentType="image/png"/>
  <Override PartName="/ppt/media/image32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57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58.png" ContentType="image/png"/>
  <Override PartName="/ppt/media/image24.jpeg" ContentType="image/jpeg"/>
  <Override PartName="/ppt/media/image22.png" ContentType="image/png"/>
  <Override PartName="/ppt/media/image59.png" ContentType="image/png"/>
  <Override PartName="/ppt/media/image60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9.wmf" ContentType="image/x-wmf"/>
  <Override PartName="/ppt/media/image41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1.png" ContentType="image/png"/>
  <Override PartName="/ppt/media/image2.jpeg" ContentType="image/jpeg"/>
  <Override PartName="/ppt/media/image31.png" ContentType="image/png"/>
  <Override PartName="/ppt/media/image26.png" ContentType="image/png"/>
  <Override PartName="/ppt/media/image8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7.jpeg" ContentType="image/jpeg"/>
  <Override PartName="/ppt/media/image4.png" ContentType="image/png"/>
  <Override PartName="/ppt/media/image81.png" ContentType="image/png"/>
  <Override PartName="/ppt/media/image16.png" ContentType="image/png"/>
  <Override PartName="/ppt/media/image11.png" ContentType="image/png"/>
  <Override PartName="/ppt/media/image48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0E08-8A2B-479E-AB16-E86E4151DA9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3C1C-383F-46E6-9E7E-FC8438A9E3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3CAE-C001-4E87-9DA5-5FE0B54EB8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6C8F-7D9D-425D-BE38-A95F125757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4499-7B2F-479E-B610-60E6E293CE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2D0D-0421-430F-BBF4-9C1B957797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D46F-8B53-40FB-B018-ECCF08C9FE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581A-9808-42C4-9100-1C4032BE96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EB85-1DE2-486C-BA9B-CADD91B18EF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C4B7-9EB3-43C8-8A19-56FB8AD585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DDB9-53E4-46B5-8C1B-6C14CF11D6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01C3-8758-4D1B-A340-70390E9AB4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4033-0AFC-4DD4-8012-52194FFCBA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98FE-EA3A-439E-AD9A-A03EE56B87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56E3-E306-4012-A1A7-486228D363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7D87-CD08-47F6-BFBD-60A3832094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1B16-0BF4-472F-9B12-447DD55FF4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3DD4-01FB-4004-9A04-84C3BA0F7E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3E0C-D309-44BE-9A68-1CE38B8488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96EF-ABD6-40B4-AC4B-715EA27C2B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04D3-FB7C-4288-B046-08E8862987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9ACF-2E78-4149-8785-7B8E70D5EE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CA2-ED1F-4F35-B2C2-2BCF51BD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A9F-0820-41AD-9F74-28535270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6B8-EC17-46BC-B1C8-A9DC10AC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EAAA-90FE-495F-9B5D-3A1BAAA5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2FF4-0D65-451C-8A1A-101D6DDD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D57-9C90-4E6F-964F-0397E796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D4F-3657-4ADC-BC94-E0DF9649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CBD-8A1E-486B-9312-4E65302A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557C-A5D8-4454-B755-39ADE8EA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664-39C0-4E7D-A832-E7E78F64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095-1875-4DC5-91D0-6E7ECD79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0EF-D2EC-4CA5-866B-20411CDA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F689-19BB-4CFC-862D-CFA7C9A2CD2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urjc.es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ucm.es/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www.upm.es/" TargetMode="Externa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image" Target="../media/image19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23.png"/><Relationship Id="rId14" Type="http://schemas.openxmlformats.org/officeDocument/2006/relationships/image" Target="../media/image19.png"/><Relationship Id="rId15" Type="http://schemas.openxmlformats.org/officeDocument/2006/relationships/image" Target="../media/image18.wmf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39.png"/><Relationship Id="rId24" Type="http://schemas.openxmlformats.org/officeDocument/2006/relationships/image" Target="../media/image40.png"/><Relationship Id="rId25" Type="http://schemas.openxmlformats.org/officeDocument/2006/relationships/image" Target="../media/image41.pn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18.wmf"/><Relationship Id="rId7" Type="http://schemas.openxmlformats.org/officeDocument/2006/relationships/image" Target="../media/image46.png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7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4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18.wmf"/><Relationship Id="rId7" Type="http://schemas.openxmlformats.org/officeDocument/2006/relationships/image" Target="../media/image56.png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image" Target="../media/image35.png"/><Relationship Id="rId11" Type="http://schemas.openxmlformats.org/officeDocument/2006/relationships/image" Target="../media/image57.png"/><Relationship Id="rId12" Type="http://schemas.openxmlformats.org/officeDocument/2006/relationships/image" Target="../media/image35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35.png"/><Relationship Id="rId17" Type="http://schemas.openxmlformats.org/officeDocument/2006/relationships/image" Target="../media/image61.png"/><Relationship Id="rId18" Type="http://schemas.openxmlformats.org/officeDocument/2006/relationships/image" Target="../media/image62.png"/><Relationship Id="rId19" Type="http://schemas.openxmlformats.org/officeDocument/2006/relationships/image" Target="../media/image63.png"/><Relationship Id="rId20" Type="http://schemas.openxmlformats.org/officeDocument/2006/relationships/image" Target="../media/image64.png"/><Relationship Id="rId21" Type="http://schemas.openxmlformats.org/officeDocument/2006/relationships/image" Target="../media/image18.wmf"/><Relationship Id="rId22" Type="http://schemas.openxmlformats.org/officeDocument/2006/relationships/image" Target="../media/image65.png"/><Relationship Id="rId23" Type="http://schemas.openxmlformats.org/officeDocument/2006/relationships/image" Target="../media/image18.wmf"/><Relationship Id="rId24" Type="http://schemas.openxmlformats.org/officeDocument/2006/relationships/image" Target="../media/image18.wmf"/><Relationship Id="rId25" Type="http://schemas.openxmlformats.org/officeDocument/2006/relationships/image" Target="../media/image66.png"/><Relationship Id="rId26" Type="http://schemas.openxmlformats.org/officeDocument/2006/relationships/image" Target="../media/image67.png"/><Relationship Id="rId27" Type="http://schemas.openxmlformats.org/officeDocument/2006/relationships/image" Target="../media/image66.png"/><Relationship Id="rId28" Type="http://schemas.openxmlformats.org/officeDocument/2006/relationships/image" Target="../media/image68.png"/><Relationship Id="rId29" Type="http://schemas.openxmlformats.org/officeDocument/2006/relationships/image" Target="../media/image69.png"/><Relationship Id="rId30" Type="http://schemas.openxmlformats.org/officeDocument/2006/relationships/image" Target="../media/image70.png"/><Relationship Id="rId31" Type="http://schemas.openxmlformats.org/officeDocument/2006/relationships/image" Target="../media/image70.png"/><Relationship Id="rId32" Type="http://schemas.openxmlformats.org/officeDocument/2006/relationships/image" Target="../media/image71.png"/><Relationship Id="rId33" Type="http://schemas.openxmlformats.org/officeDocument/2006/relationships/image" Target="../media/image72.png"/><Relationship Id="rId34" Type="http://schemas.openxmlformats.org/officeDocument/2006/relationships/image" Target="../media/image73.png"/><Relationship Id="rId35" Type="http://schemas.openxmlformats.org/officeDocument/2006/relationships/image" Target="../media/image74.png"/><Relationship Id="rId36" Type="http://schemas.openxmlformats.org/officeDocument/2006/relationships/image" Target="../media/image18.wmf"/><Relationship Id="rId37" Type="http://schemas.openxmlformats.org/officeDocument/2006/relationships/image" Target="../media/image75.png"/><Relationship Id="rId38" Type="http://schemas.openxmlformats.org/officeDocument/2006/relationships/image" Target="../media/image18.wmf"/><Relationship Id="rId39" Type="http://schemas.openxmlformats.org/officeDocument/2006/relationships/image" Target="../media/image18.wmf"/><Relationship Id="rId40" Type="http://schemas.openxmlformats.org/officeDocument/2006/relationships/image" Target="../media/image76.png"/><Relationship Id="rId41" Type="http://schemas.openxmlformats.org/officeDocument/2006/relationships/image" Target="../media/image77.png"/><Relationship Id="rId42" Type="http://schemas.openxmlformats.org/officeDocument/2006/relationships/image" Target="../media/image78.png"/><Relationship Id="rId43" Type="http://schemas.openxmlformats.org/officeDocument/2006/relationships/image" Target="../media/image79.png"/><Relationship Id="rId44" Type="http://schemas.openxmlformats.org/officeDocument/2006/relationships/image" Target="../media/image80.png"/><Relationship Id="rId45" Type="http://schemas.openxmlformats.org/officeDocument/2006/relationships/image" Target="../media/image78.png"/><Relationship Id="rId46" Type="http://schemas.openxmlformats.org/officeDocument/2006/relationships/image" Target="../media/image78.png"/><Relationship Id="rId47" Type="http://schemas.openxmlformats.org/officeDocument/2006/relationships/slideLayout" Target="../slideLayouts/slideLayout1.xml"/><Relationship Id="rId4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wmf"/><Relationship Id="rId3" Type="http://schemas.openxmlformats.org/officeDocument/2006/relationships/image" Target="../media/image13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>
            <a:alphaModFix amt="8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7 CuadroTexto"/>
          <p:cNvSpPr/>
          <p:nvPr/>
        </p:nvSpPr>
        <p:spPr>
          <a:xfrm>
            <a:off x="141120" y="1571760"/>
            <a:ext cx="8745840" cy="265392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2d050"/>
                </a:solidFill>
                <a:latin typeface="Dutch801 Rm BT"/>
              </a:rPr>
              <a:t>PROPUESTA DE RESTITU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2d050"/>
                </a:solidFill>
                <a:latin typeface="Dutch801 Rm BT"/>
              </a:rPr>
              <a:t>DE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2d050"/>
                </a:solidFill>
                <a:latin typeface="Garamond"/>
              </a:rPr>
              <a:t>Arenaria bolos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2d050"/>
                </a:solidFill>
                <a:latin typeface="Garamond"/>
              </a:rPr>
              <a:t>en el Macizo de Puig de Marssanella , Mallo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CuadroTexto"/>
          <p:cNvSpPr/>
          <p:nvPr/>
        </p:nvSpPr>
        <p:spPr>
          <a:xfrm>
            <a:off x="5973840" y="6049800"/>
            <a:ext cx="3143160" cy="1313640"/>
          </a:xfrm>
          <a:prstGeom prst="rect">
            <a:avLst/>
          </a:prstGeom>
          <a:solidFill>
            <a:srgbClr val="00000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Estela Barroso Corroch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Luis E. San Joaquín P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uadroTexto"/>
          <p:cNvSpPr/>
          <p:nvPr/>
        </p:nvSpPr>
        <p:spPr>
          <a:xfrm>
            <a:off x="123840" y="5273640"/>
            <a:ext cx="5143320" cy="17514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Máster Oficial en Restauración de Eco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2008 /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escudo_UAH"/>
          <p:cNvPicPr/>
          <p:nvPr/>
        </p:nvPicPr>
        <p:blipFill>
          <a:blip r:embed="rId2"/>
          <a:stretch/>
        </p:blipFill>
        <p:spPr>
          <a:xfrm>
            <a:off x="357120" y="6076800"/>
            <a:ext cx="1143000" cy="45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Picture 8" descr="Universidad Rey Juan Carlos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85960" y="6086520"/>
            <a:ext cx="1285920" cy="44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Logotipo de la UCM, pulse para acceder a la página principa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8160" y="6083280"/>
            <a:ext cx="1222560" cy="46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UPM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4920" y="6004080"/>
            <a:ext cx="6062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2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6 Rectángulo"/>
            <p:cNvSpPr/>
            <p:nvPr/>
          </p:nvSpPr>
          <p:spPr>
            <a:xfrm>
              <a:off x="64800" y="77760"/>
              <a:ext cx="9001440" cy="671544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4 CuadroTexto"/>
          <p:cNvSpPr/>
          <p:nvPr/>
        </p:nvSpPr>
        <p:spPr>
          <a:xfrm>
            <a:off x="500040" y="1109520"/>
            <a:ext cx="3643200" cy="825480"/>
          </a:xfrm>
          <a:prstGeom prst="rect">
            <a:avLst/>
          </a:prstGeom>
          <a:solidFill>
            <a:srgbClr val="4f81bd">
              <a:alpha val="10000"/>
            </a:srgbClr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Garamond"/>
              </a:rPr>
              <a:t>Hipótesis 2.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emillas v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8 CuadroTexto"/>
          <p:cNvSpPr/>
          <p:nvPr/>
        </p:nvSpPr>
        <p:spPr>
          <a:xfrm>
            <a:off x="169920" y="1787400"/>
            <a:ext cx="8974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realizarán dos experime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Garamond"/>
              </a:rPr>
              <a:t>Experimento 1: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Construcción de barreras de retención  que eviten la posible pérdida de semillas por arrastre pendiente 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14 Grupo"/>
          <p:cNvGrpSpPr/>
          <p:nvPr/>
        </p:nvGrpSpPr>
        <p:grpSpPr>
          <a:xfrm>
            <a:off x="1800" y="3032280"/>
            <a:ext cx="8999280" cy="3538440"/>
            <a:chOff x="1800" y="3032280"/>
            <a:chExt cx="8999280" cy="3538440"/>
          </a:xfrm>
        </p:grpSpPr>
        <p:cxnSp>
          <p:nvCxnSpPr>
            <p:cNvPr id="178" name="20 Conector recto de flecha"/>
            <p:cNvCxnSpPr/>
            <p:nvPr/>
          </p:nvCxnSpPr>
          <p:spPr>
            <a:xfrm>
              <a:off x="171360" y="3505320"/>
              <a:ext cx="32904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79" name="21 Conector recto de flecha"/>
            <p:cNvCxnSpPr/>
            <p:nvPr/>
          </p:nvCxnSpPr>
          <p:spPr>
            <a:xfrm>
              <a:off x="155520" y="5632560"/>
              <a:ext cx="202320" cy="10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80" name="23 Conector recto"/>
            <p:cNvSpPr/>
            <p:nvPr/>
          </p:nvSpPr>
          <p:spPr>
            <a:xfrm flipH="1">
              <a:off x="142560" y="3032280"/>
              <a:ext cx="6120" cy="2610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26 CuadroTexto"/>
            <p:cNvSpPr/>
            <p:nvPr/>
          </p:nvSpPr>
          <p:spPr>
            <a:xfrm>
              <a:off x="479160" y="3290760"/>
              <a:ext cx="8521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 u="sng">
                  <a:solidFill>
                    <a:srgbClr val="ffffff"/>
                  </a:solidFill>
                  <a:uFillTx/>
                  <a:latin typeface="Garamond"/>
                </a:rPr>
                <a:t>Aparecen plántulas</a:t>
              </a:r>
              <a:r>
                <a:rPr b="0" lang="es-ES" sz="2000" spc="-1" strike="noStrike">
                  <a:solidFill>
                    <a:srgbClr val="ffffff"/>
                  </a:solidFill>
                  <a:latin typeface="Garamond"/>
                </a:rPr>
                <a:t>:  </a:t>
              </a: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a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plántulas no se instalan por exceso de pendiente (las semillas son arrastrad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30 Rectángulo"/>
            <p:cNvSpPr/>
            <p:nvPr/>
          </p:nvSpPr>
          <p:spPr>
            <a:xfrm>
              <a:off x="2597040" y="4776840"/>
              <a:ext cx="61722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b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plántulas no se desarrollan debido a la herbivoría, recolección y/o pisot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c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semillas no germinan debido a la alteración de las condiciones del ento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37 Abrir llave"/>
            <p:cNvSpPr/>
            <p:nvPr/>
          </p:nvSpPr>
          <p:spPr>
            <a:xfrm>
              <a:off x="2571840" y="4603680"/>
              <a:ext cx="99720" cy="1967040"/>
            </a:xfrm>
            <a:custGeom>
              <a:avLst/>
              <a:gdLst>
                <a:gd name="textAreaLeft" fmla="*/ 63720 w 99720"/>
                <a:gd name="textAreaRight" fmla="*/ 100080 w 99720"/>
                <a:gd name="textAreaTop" fmla="*/ 2520 h 1967040"/>
                <a:gd name="textAreaBottom" fmla="*/ 1964520 h 19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6"/>
                    <a:pt x="10800" y="92"/>
                  </a:cubicBezTo>
                  <a:lnTo>
                    <a:pt x="10800" y="10708"/>
                  </a:lnTo>
                  <a:cubicBezTo>
                    <a:pt x="10800" y="10754"/>
                    <a:pt x="5400" y="10800"/>
                    <a:pt x="0" y="10800"/>
                  </a:cubicBezTo>
                  <a:cubicBezTo>
                    <a:pt x="5400" y="10800"/>
                    <a:pt x="10800" y="10846"/>
                    <a:pt x="10800" y="10892"/>
                  </a:cubicBezTo>
                  <a:lnTo>
                    <a:pt x="10800" y="21508"/>
                  </a:lnTo>
                  <a:cubicBezTo>
                    <a:pt x="10800" y="2155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43 Rectángulo"/>
            <p:cNvSpPr/>
            <p:nvPr/>
          </p:nvSpPr>
          <p:spPr>
            <a:xfrm>
              <a:off x="1800" y="5472360"/>
              <a:ext cx="297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 u="sng">
                  <a:solidFill>
                    <a:srgbClr val="ffffff"/>
                  </a:solidFill>
                  <a:uFillTx/>
                  <a:latin typeface="Garamond"/>
                </a:rPr>
                <a:t>No aparecen plántulas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82 Grupo"/>
          <p:cNvGrpSpPr/>
          <p:nvPr/>
        </p:nvGrpSpPr>
        <p:grpSpPr>
          <a:xfrm>
            <a:off x="2500200" y="3286080"/>
            <a:ext cx="3857760" cy="2928960"/>
            <a:chOff x="2500200" y="3286080"/>
            <a:chExt cx="3857760" cy="2928960"/>
          </a:xfrm>
        </p:grpSpPr>
        <p:sp>
          <p:nvSpPr>
            <p:cNvPr id="186" name="16 Rectángulo"/>
            <p:cNvSpPr/>
            <p:nvPr/>
          </p:nvSpPr>
          <p:spPr>
            <a:xfrm>
              <a:off x="2500200" y="3286080"/>
              <a:ext cx="3857760" cy="292896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21 Grupo"/>
            <p:cNvGrpSpPr/>
            <p:nvPr/>
          </p:nvGrpSpPr>
          <p:grpSpPr>
            <a:xfrm>
              <a:off x="2607840" y="3337920"/>
              <a:ext cx="3642120" cy="2824200"/>
              <a:chOff x="2607840" y="3337920"/>
              <a:chExt cx="3642120" cy="2824200"/>
            </a:xfrm>
          </p:grpSpPr>
          <p:sp>
            <p:nvSpPr>
              <p:cNvPr id="188" name="33 Forma libre"/>
              <p:cNvSpPr/>
              <p:nvPr/>
            </p:nvSpPr>
            <p:spPr>
              <a:xfrm>
                <a:off x="3281040" y="3747600"/>
                <a:ext cx="2968920" cy="2399040"/>
              </a:xfrm>
              <a:prstGeom prst="pie">
                <a:avLst/>
              </a:prstGeom>
              <a:solidFill>
                <a:srgbClr val="3d2d1b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34 Conector recto"/>
              <p:cNvSpPr/>
              <p:nvPr/>
            </p:nvSpPr>
            <p:spPr>
              <a:xfrm flipH="1" flipV="1">
                <a:off x="2621880" y="5260680"/>
                <a:ext cx="65880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8 Conector recto"/>
              <p:cNvSpPr/>
              <p:nvPr/>
            </p:nvSpPr>
            <p:spPr>
              <a:xfrm flipH="1" flipV="1">
                <a:off x="2607840" y="5560560"/>
                <a:ext cx="689040" cy="60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36 Conector recto"/>
              <p:cNvSpPr/>
              <p:nvPr/>
            </p:nvSpPr>
            <p:spPr>
              <a:xfrm flipH="1">
                <a:off x="2621880" y="5284800"/>
                <a:ext cx="144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38 Forma libre"/>
              <p:cNvSpPr/>
              <p:nvPr/>
            </p:nvSpPr>
            <p:spPr>
              <a:xfrm>
                <a:off x="2639520" y="3338280"/>
                <a:ext cx="3105720" cy="1944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39 Conector recto"/>
              <p:cNvSpPr/>
              <p:nvPr/>
            </p:nvSpPr>
            <p:spPr>
              <a:xfrm flipH="1" flipV="1">
                <a:off x="5745240" y="3337920"/>
                <a:ext cx="504720" cy="40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4" name="Picture 3" descr="C:\Users\Sanjoa\AppData\Local\Microsoft\Windows\Temporary Internet Files\Content.IE5\8Y1L5Q67\MCj01229730000[1].wmf"/>
            <p:cNvPicPr/>
            <p:nvPr/>
          </p:nvPicPr>
          <p:blipFill>
            <a:blip r:embed="rId2"/>
            <a:stretch/>
          </p:blipFill>
          <p:spPr>
            <a:xfrm>
              <a:off x="4391280" y="3762000"/>
              <a:ext cx="36756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3" descr="C:\Users\Sanjoa\AppData\Local\Microsoft\Windows\Temporary Internet Files\Content.IE5\8Y1L5Q67\MCj01229730000[1].wmf"/>
            <p:cNvPicPr/>
            <p:nvPr/>
          </p:nvPicPr>
          <p:blipFill>
            <a:blip r:embed="rId3"/>
            <a:stretch/>
          </p:blipFill>
          <p:spPr>
            <a:xfrm flipH="1">
              <a:off x="4732560" y="4008960"/>
              <a:ext cx="303120" cy="564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6" name="44 Grupo"/>
            <p:cNvGrpSpPr/>
            <p:nvPr/>
          </p:nvGrpSpPr>
          <p:grpSpPr>
            <a:xfrm>
              <a:off x="3577320" y="4341600"/>
              <a:ext cx="906480" cy="793440"/>
              <a:chOff x="3577320" y="4341600"/>
              <a:chExt cx="906480" cy="793440"/>
            </a:xfrm>
          </p:grpSpPr>
          <p:grpSp>
            <p:nvGrpSpPr>
              <p:cNvPr id="197" name="27 Cilindro"/>
              <p:cNvGrpSpPr/>
              <p:nvPr/>
            </p:nvGrpSpPr>
            <p:grpSpPr>
              <a:xfrm>
                <a:off x="3994560" y="4450680"/>
                <a:ext cx="101160" cy="408240"/>
                <a:chOff x="3994560" y="4450680"/>
                <a:chExt cx="101160" cy="408240"/>
              </a:xfrm>
            </p:grpSpPr>
            <p:pic>
              <p:nvPicPr>
                <p:cNvPr id="198" name="27 Cilindro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994560" y="4450680"/>
                  <a:ext cx="10116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9" name=""/>
                <p:cNvSpPr/>
                <p:nvPr/>
              </p:nvSpPr>
              <p:spPr>
                <a:xfrm rot="10800000">
                  <a:off x="4015080" y="447156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28 Cilindro"/>
              <p:cNvGrpSpPr/>
              <p:nvPr/>
            </p:nvGrpSpPr>
            <p:grpSpPr>
              <a:xfrm>
                <a:off x="3669120" y="4395240"/>
                <a:ext cx="814680" cy="654480"/>
                <a:chOff x="3669120" y="4395240"/>
                <a:chExt cx="814680" cy="654480"/>
              </a:xfrm>
            </p:grpSpPr>
            <p:pic>
              <p:nvPicPr>
                <p:cNvPr id="201" name="28 Cilindro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69120" y="4404600"/>
                  <a:ext cx="81468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2" name=""/>
                <p:cNvSpPr/>
                <p:nvPr/>
              </p:nvSpPr>
              <p:spPr>
                <a:xfrm rot="7800000">
                  <a:off x="3998520" y="4296240"/>
                  <a:ext cx="139680" cy="85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29 Cilindro"/>
              <p:cNvGrpSpPr/>
              <p:nvPr/>
            </p:nvGrpSpPr>
            <p:grpSpPr>
              <a:xfrm>
                <a:off x="3577320" y="4483800"/>
                <a:ext cx="801720" cy="651240"/>
                <a:chOff x="3577320" y="4483800"/>
                <a:chExt cx="801720" cy="651240"/>
              </a:xfrm>
            </p:grpSpPr>
            <p:pic>
              <p:nvPicPr>
                <p:cNvPr id="204" name="29 Cilindro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577320" y="4491000"/>
                  <a:ext cx="80172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5" name=""/>
                <p:cNvSpPr/>
                <p:nvPr/>
              </p:nvSpPr>
              <p:spPr>
                <a:xfrm rot="7800000">
                  <a:off x="3900960" y="4385880"/>
                  <a:ext cx="1396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30 Cilindro"/>
              <p:cNvGrpSpPr/>
              <p:nvPr/>
            </p:nvGrpSpPr>
            <p:grpSpPr>
              <a:xfrm>
                <a:off x="3626280" y="4397760"/>
                <a:ext cx="799200" cy="645120"/>
                <a:chOff x="3626280" y="4397760"/>
                <a:chExt cx="799200" cy="645120"/>
              </a:xfrm>
            </p:grpSpPr>
            <p:pic>
              <p:nvPicPr>
                <p:cNvPr id="207" name="30 Cilindro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626280" y="4404600"/>
                  <a:ext cx="799200" cy="63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8" name=""/>
                <p:cNvSpPr/>
                <p:nvPr/>
              </p:nvSpPr>
              <p:spPr>
                <a:xfrm rot="7800000">
                  <a:off x="3951360" y="4297680"/>
                  <a:ext cx="1332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31 Cilindro"/>
              <p:cNvGrpSpPr/>
              <p:nvPr/>
            </p:nvGrpSpPr>
            <p:grpSpPr>
              <a:xfrm>
                <a:off x="3636360" y="4341600"/>
                <a:ext cx="94320" cy="408240"/>
                <a:chOff x="3636360" y="4341600"/>
                <a:chExt cx="94320" cy="408240"/>
              </a:xfrm>
            </p:grpSpPr>
            <p:pic>
              <p:nvPicPr>
                <p:cNvPr id="210" name="31 Cilindro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36360" y="4341600"/>
                  <a:ext cx="9432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0800000">
                  <a:off x="3653280" y="436608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32 Cilindro"/>
              <p:cNvGrpSpPr/>
              <p:nvPr/>
            </p:nvGrpSpPr>
            <p:grpSpPr>
              <a:xfrm>
                <a:off x="4116600" y="4715280"/>
                <a:ext cx="94320" cy="408240"/>
                <a:chOff x="4116600" y="4715280"/>
                <a:chExt cx="94320" cy="408240"/>
              </a:xfrm>
            </p:grpSpPr>
            <p:pic>
              <p:nvPicPr>
                <p:cNvPr id="213" name="32 Cilindro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116600" y="4715280"/>
                  <a:ext cx="9432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0800000">
                  <a:off x="4134600" y="474012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5" name="25 Forma libre"/>
            <p:cNvSpPr/>
            <p:nvPr/>
          </p:nvSpPr>
          <p:spPr>
            <a:xfrm>
              <a:off x="2620800" y="5289480"/>
              <a:ext cx="682560" cy="869760"/>
            </a:xfrm>
            <a:prstGeom prst="pie">
              <a:avLst/>
            </a:prstGeom>
            <a:solidFill>
              <a:srgbClr val="3d2d1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Picture 3" descr="C:\Users\Sanjoa\AppData\Local\Microsoft\Windows\Temporary Internet Files\Content.IE5\8Y1L5Q67\MCj01229730000[1].wmf"/>
            <p:cNvPicPr/>
            <p:nvPr/>
          </p:nvPicPr>
          <p:blipFill>
            <a:blip r:embed="rId10"/>
            <a:stretch/>
          </p:blipFill>
          <p:spPr>
            <a:xfrm flipH="1">
              <a:off x="4429080" y="4286160"/>
              <a:ext cx="303120" cy="56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E:\Mis Documentos\MASTER\ASIGNATURAS\Restauracion de Poblaciones\Trabajo\Fotos Puig Massanella\2008-12-05 0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219" name="81 Grupo"/>
          <p:cNvGrpSpPr/>
          <p:nvPr/>
        </p:nvGrpSpPr>
        <p:grpSpPr>
          <a:xfrm>
            <a:off x="2541600" y="4286160"/>
            <a:ext cx="1019160" cy="557280"/>
            <a:chOff x="2541600" y="4286160"/>
            <a:chExt cx="1019160" cy="557280"/>
          </a:xfrm>
        </p:grpSpPr>
        <p:grpSp>
          <p:nvGrpSpPr>
            <p:cNvPr id="220" name="56 Cilindro"/>
            <p:cNvGrpSpPr/>
            <p:nvPr/>
          </p:nvGrpSpPr>
          <p:grpSpPr>
            <a:xfrm>
              <a:off x="2576880" y="4371480"/>
              <a:ext cx="978120" cy="301320"/>
              <a:chOff x="2576880" y="4371480"/>
              <a:chExt cx="978120" cy="301320"/>
            </a:xfrm>
          </p:grpSpPr>
          <p:pic>
            <p:nvPicPr>
              <p:cNvPr id="221" name="56 Cilindro" descr=""/>
              <p:cNvPicPr/>
              <p:nvPr/>
            </p:nvPicPr>
            <p:blipFill>
              <a:blip r:embed="rId2"/>
              <a:stretch/>
            </p:blipFill>
            <p:spPr>
              <a:xfrm>
                <a:off x="2576880" y="4371480"/>
                <a:ext cx="978120" cy="30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 rot="4909800">
                <a:off x="2984400" y="4079160"/>
                <a:ext cx="145440" cy="88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57 Cilindro"/>
            <p:cNvGrpSpPr/>
            <p:nvPr/>
          </p:nvGrpSpPr>
          <p:grpSpPr>
            <a:xfrm>
              <a:off x="2582640" y="4502160"/>
              <a:ext cx="978120" cy="301320"/>
              <a:chOff x="2582640" y="4502160"/>
              <a:chExt cx="978120" cy="301320"/>
            </a:xfrm>
          </p:grpSpPr>
          <p:pic>
            <p:nvPicPr>
              <p:cNvPr id="224" name="57 Cilindro" descr=""/>
              <p:cNvPicPr/>
              <p:nvPr/>
            </p:nvPicPr>
            <p:blipFill>
              <a:blip r:embed="rId3"/>
              <a:stretch/>
            </p:blipFill>
            <p:spPr>
              <a:xfrm>
                <a:off x="2582640" y="4502160"/>
                <a:ext cx="978120" cy="30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 rot="4909800">
                <a:off x="2989440" y="4208400"/>
                <a:ext cx="145440" cy="88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58 Cilindro"/>
            <p:cNvGrpSpPr/>
            <p:nvPr/>
          </p:nvGrpSpPr>
          <p:grpSpPr>
            <a:xfrm>
              <a:off x="2541600" y="4405320"/>
              <a:ext cx="978120" cy="301320"/>
              <a:chOff x="2541600" y="4405320"/>
              <a:chExt cx="978120" cy="301320"/>
            </a:xfrm>
          </p:grpSpPr>
          <p:pic>
            <p:nvPicPr>
              <p:cNvPr id="227" name="58 Cilindro" descr=""/>
              <p:cNvPicPr/>
              <p:nvPr/>
            </p:nvPicPr>
            <p:blipFill>
              <a:blip r:embed="rId4"/>
              <a:stretch/>
            </p:blipFill>
            <p:spPr>
              <a:xfrm>
                <a:off x="2541600" y="4405320"/>
                <a:ext cx="978120" cy="30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 rot="4909800">
                <a:off x="2952360" y="4111920"/>
                <a:ext cx="138960" cy="89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55 Cilindro"/>
            <p:cNvGrpSpPr/>
            <p:nvPr/>
          </p:nvGrpSpPr>
          <p:grpSpPr>
            <a:xfrm>
              <a:off x="2706480" y="4354200"/>
              <a:ext cx="105840" cy="489240"/>
              <a:chOff x="2706480" y="4354200"/>
              <a:chExt cx="105840" cy="489240"/>
            </a:xfrm>
          </p:grpSpPr>
          <p:pic>
            <p:nvPicPr>
              <p:cNvPr id="230" name="55 Cilindro" descr=""/>
              <p:cNvPicPr/>
              <p:nvPr/>
            </p:nvPicPr>
            <p:blipFill>
              <a:blip r:embed="rId5"/>
              <a:stretch/>
            </p:blipFill>
            <p:spPr>
              <a:xfrm>
                <a:off x="2706480" y="4354200"/>
                <a:ext cx="105840" cy="48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 rot="10800000">
                <a:off x="2725920" y="4378680"/>
                <a:ext cx="691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61 Cilindro"/>
            <p:cNvGrpSpPr/>
            <p:nvPr/>
          </p:nvGrpSpPr>
          <p:grpSpPr>
            <a:xfrm>
              <a:off x="3331080" y="4286160"/>
              <a:ext cx="105840" cy="489240"/>
              <a:chOff x="3331080" y="4286160"/>
              <a:chExt cx="105840" cy="489240"/>
            </a:xfrm>
          </p:grpSpPr>
          <p:pic>
            <p:nvPicPr>
              <p:cNvPr id="233" name="61 Cilindro" descr=""/>
              <p:cNvPicPr/>
              <p:nvPr/>
            </p:nvPicPr>
            <p:blipFill>
              <a:blip r:embed="rId6"/>
              <a:stretch/>
            </p:blipFill>
            <p:spPr>
              <a:xfrm>
                <a:off x="3331080" y="4286160"/>
                <a:ext cx="105840" cy="48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 rot="10800000">
                <a:off x="3347280" y="4312080"/>
                <a:ext cx="691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82 Grupo"/>
          <p:cNvGrpSpPr/>
          <p:nvPr/>
        </p:nvGrpSpPr>
        <p:grpSpPr>
          <a:xfrm>
            <a:off x="5208480" y="65160"/>
            <a:ext cx="3857760" cy="2928960"/>
            <a:chOff x="5208480" y="65160"/>
            <a:chExt cx="3857760" cy="2928960"/>
          </a:xfrm>
        </p:grpSpPr>
        <p:sp>
          <p:nvSpPr>
            <p:cNvPr id="236" name="51 Rectángulo"/>
            <p:cNvSpPr/>
            <p:nvPr/>
          </p:nvSpPr>
          <p:spPr>
            <a:xfrm>
              <a:off x="5208480" y="65160"/>
              <a:ext cx="3857760" cy="292896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21 Grupo"/>
            <p:cNvGrpSpPr/>
            <p:nvPr/>
          </p:nvGrpSpPr>
          <p:grpSpPr>
            <a:xfrm>
              <a:off x="5316480" y="117360"/>
              <a:ext cx="3641040" cy="2824200"/>
              <a:chOff x="5316480" y="117360"/>
              <a:chExt cx="3641040" cy="2824200"/>
            </a:xfrm>
          </p:grpSpPr>
          <p:sp>
            <p:nvSpPr>
              <p:cNvPr id="238" name="45 Forma libre"/>
              <p:cNvSpPr/>
              <p:nvPr/>
            </p:nvSpPr>
            <p:spPr>
              <a:xfrm>
                <a:off x="5989680" y="527040"/>
                <a:ext cx="2967840" cy="2399040"/>
              </a:xfrm>
              <a:prstGeom prst="pie">
                <a:avLst/>
              </a:prstGeom>
              <a:solidFill>
                <a:srgbClr val="3d2d1b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46 Conector recto"/>
              <p:cNvSpPr/>
              <p:nvPr/>
            </p:nvSpPr>
            <p:spPr>
              <a:xfrm flipH="1" flipV="1">
                <a:off x="5330520" y="2040120"/>
                <a:ext cx="65844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8 Conector recto"/>
              <p:cNvSpPr/>
              <p:nvPr/>
            </p:nvSpPr>
            <p:spPr>
              <a:xfrm flipH="1" flipV="1">
                <a:off x="5316480" y="2340000"/>
                <a:ext cx="688680" cy="60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48 Conector recto"/>
              <p:cNvSpPr/>
              <p:nvPr/>
            </p:nvSpPr>
            <p:spPr>
              <a:xfrm flipH="1">
                <a:off x="5330880" y="2063880"/>
                <a:ext cx="144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49 Forma libre"/>
              <p:cNvSpPr/>
              <p:nvPr/>
            </p:nvSpPr>
            <p:spPr>
              <a:xfrm>
                <a:off x="5348520" y="117360"/>
                <a:ext cx="3104280" cy="1945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50 Conector recto"/>
              <p:cNvSpPr/>
              <p:nvPr/>
            </p:nvSpPr>
            <p:spPr>
              <a:xfrm flipH="1" flipV="1">
                <a:off x="8452800" y="117360"/>
                <a:ext cx="504720" cy="4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4" name="Picture 3" descr="C:\Users\Sanjoa\AppData\Local\Microsoft\Windows\Temporary Internet Files\Content.IE5\8Y1L5Q67\MCj01229730000[1].wmf"/>
            <p:cNvPicPr/>
            <p:nvPr/>
          </p:nvPicPr>
          <p:blipFill>
            <a:blip r:embed="rId7"/>
            <a:stretch/>
          </p:blipFill>
          <p:spPr>
            <a:xfrm>
              <a:off x="7099560" y="541080"/>
              <a:ext cx="36756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3" descr="C:\Users\Sanjoa\AppData\Local\Microsoft\Windows\Temporary Internet Files\Content.IE5\8Y1L5Q67\MCj01229730000[1].wmf"/>
            <p:cNvPicPr/>
            <p:nvPr/>
          </p:nvPicPr>
          <p:blipFill>
            <a:blip r:embed="rId8"/>
            <a:stretch/>
          </p:blipFill>
          <p:spPr>
            <a:xfrm flipH="1">
              <a:off x="7440840" y="788040"/>
              <a:ext cx="303120" cy="564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44 Grupo"/>
            <p:cNvGrpSpPr/>
            <p:nvPr/>
          </p:nvGrpSpPr>
          <p:grpSpPr>
            <a:xfrm>
              <a:off x="6283800" y="1120680"/>
              <a:ext cx="906480" cy="793440"/>
              <a:chOff x="6283800" y="1120680"/>
              <a:chExt cx="906480" cy="793440"/>
            </a:xfrm>
          </p:grpSpPr>
          <p:grpSp>
            <p:nvGrpSpPr>
              <p:cNvPr id="247" name="31 Cilindro"/>
              <p:cNvGrpSpPr/>
              <p:nvPr/>
            </p:nvGrpSpPr>
            <p:grpSpPr>
              <a:xfrm>
                <a:off x="6702840" y="1224000"/>
                <a:ext cx="101160" cy="408240"/>
                <a:chOff x="6702840" y="1224000"/>
                <a:chExt cx="101160" cy="408240"/>
              </a:xfrm>
            </p:grpSpPr>
            <p:pic>
              <p:nvPicPr>
                <p:cNvPr id="248" name="31 Cilindro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02840" y="1224000"/>
                  <a:ext cx="10116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9" name=""/>
                <p:cNvSpPr/>
                <p:nvPr/>
              </p:nvSpPr>
              <p:spPr>
                <a:xfrm rot="10800000">
                  <a:off x="6725520" y="124848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32 Cilindro"/>
              <p:cNvGrpSpPr/>
              <p:nvPr/>
            </p:nvGrpSpPr>
            <p:grpSpPr>
              <a:xfrm>
                <a:off x="6375960" y="1172160"/>
                <a:ext cx="814320" cy="655560"/>
                <a:chOff x="6375960" y="1172160"/>
                <a:chExt cx="814320" cy="655560"/>
              </a:xfrm>
            </p:grpSpPr>
            <p:pic>
              <p:nvPicPr>
                <p:cNvPr id="251" name="32 Cilindro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375960" y="1183680"/>
                  <a:ext cx="81432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2" name=""/>
                <p:cNvSpPr/>
                <p:nvPr/>
              </p:nvSpPr>
              <p:spPr>
                <a:xfrm rot="7800000">
                  <a:off x="6707520" y="1073520"/>
                  <a:ext cx="139680" cy="85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33 Cilindro"/>
              <p:cNvGrpSpPr/>
              <p:nvPr/>
            </p:nvGrpSpPr>
            <p:grpSpPr>
              <a:xfrm>
                <a:off x="6283800" y="1258560"/>
                <a:ext cx="814320" cy="655560"/>
                <a:chOff x="6283800" y="1258560"/>
                <a:chExt cx="814320" cy="655560"/>
              </a:xfrm>
            </p:grpSpPr>
            <p:pic>
              <p:nvPicPr>
                <p:cNvPr id="254" name="33 Cilindro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283800" y="1270080"/>
                  <a:ext cx="81432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5" name=""/>
                <p:cNvSpPr/>
                <p:nvPr/>
              </p:nvSpPr>
              <p:spPr>
                <a:xfrm rot="7800000">
                  <a:off x="6612840" y="1159920"/>
                  <a:ext cx="139680" cy="85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34 Cilindro"/>
              <p:cNvGrpSpPr/>
              <p:nvPr/>
            </p:nvGrpSpPr>
            <p:grpSpPr>
              <a:xfrm>
                <a:off x="6332760" y="1174680"/>
                <a:ext cx="799200" cy="647280"/>
                <a:chOff x="6332760" y="1174680"/>
                <a:chExt cx="799200" cy="647280"/>
              </a:xfrm>
            </p:grpSpPr>
            <p:pic>
              <p:nvPicPr>
                <p:cNvPr id="257" name="34 Cilindro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332760" y="1183680"/>
                  <a:ext cx="799200" cy="63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8" name=""/>
                <p:cNvSpPr/>
                <p:nvPr/>
              </p:nvSpPr>
              <p:spPr>
                <a:xfrm rot="7800000">
                  <a:off x="6659640" y="1074600"/>
                  <a:ext cx="1332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35 Cilindro"/>
              <p:cNvGrpSpPr/>
              <p:nvPr/>
            </p:nvGrpSpPr>
            <p:grpSpPr>
              <a:xfrm>
                <a:off x="6344640" y="1120680"/>
                <a:ext cx="94320" cy="408240"/>
                <a:chOff x="6344640" y="1120680"/>
                <a:chExt cx="94320" cy="408240"/>
              </a:xfrm>
            </p:grpSpPr>
            <p:pic>
              <p:nvPicPr>
                <p:cNvPr id="260" name="35 Cilindro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344640" y="1120680"/>
                  <a:ext cx="9432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" name=""/>
                <p:cNvSpPr/>
                <p:nvPr/>
              </p:nvSpPr>
              <p:spPr>
                <a:xfrm rot="10800000">
                  <a:off x="6363360" y="114300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36 Cilindro"/>
              <p:cNvGrpSpPr/>
              <p:nvPr/>
            </p:nvGrpSpPr>
            <p:grpSpPr>
              <a:xfrm>
                <a:off x="6824520" y="1494360"/>
                <a:ext cx="101160" cy="408240"/>
                <a:chOff x="6824520" y="1494360"/>
                <a:chExt cx="101160" cy="408240"/>
              </a:xfrm>
            </p:grpSpPr>
            <p:pic>
              <p:nvPicPr>
                <p:cNvPr id="263" name="36 Cilindro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24520" y="1494360"/>
                  <a:ext cx="10116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" name=""/>
                <p:cNvSpPr/>
                <p:nvPr/>
              </p:nvSpPr>
              <p:spPr>
                <a:xfrm rot="10800000">
                  <a:off x="6844320" y="151704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22 Forma libre"/>
            <p:cNvSpPr/>
            <p:nvPr/>
          </p:nvSpPr>
          <p:spPr>
            <a:xfrm>
              <a:off x="5329080" y="2068560"/>
              <a:ext cx="682560" cy="869760"/>
            </a:xfrm>
            <a:prstGeom prst="pie">
              <a:avLst/>
            </a:prstGeom>
            <a:solidFill>
              <a:srgbClr val="3d2d1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3" descr="C:\Users\Sanjoa\AppData\Local\Microsoft\Windows\Temporary Internet Files\Content.IE5\8Y1L5Q67\MCj01229730000[1].wmf"/>
            <p:cNvPicPr/>
            <p:nvPr/>
          </p:nvPicPr>
          <p:blipFill>
            <a:blip r:embed="rId15"/>
            <a:stretch/>
          </p:blipFill>
          <p:spPr>
            <a:xfrm flipH="1">
              <a:off x="7137360" y="1065240"/>
              <a:ext cx="303120" cy="56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83 Grupo"/>
          <p:cNvGrpSpPr/>
          <p:nvPr/>
        </p:nvGrpSpPr>
        <p:grpSpPr>
          <a:xfrm>
            <a:off x="714240" y="4714920"/>
            <a:ext cx="1285920" cy="700200"/>
            <a:chOff x="714240" y="4714920"/>
            <a:chExt cx="1285920" cy="700200"/>
          </a:xfrm>
        </p:grpSpPr>
        <p:grpSp>
          <p:nvGrpSpPr>
            <p:cNvPr id="268" name="66 Cilindro"/>
            <p:cNvGrpSpPr/>
            <p:nvPr/>
          </p:nvGrpSpPr>
          <p:grpSpPr>
            <a:xfrm>
              <a:off x="755640" y="4824720"/>
              <a:ext cx="1238400" cy="376200"/>
              <a:chOff x="755640" y="4824720"/>
              <a:chExt cx="1238400" cy="376200"/>
            </a:xfrm>
          </p:grpSpPr>
          <p:pic>
            <p:nvPicPr>
              <p:cNvPr id="269" name="66 Cilindro" descr=""/>
              <p:cNvPicPr/>
              <p:nvPr/>
            </p:nvPicPr>
            <p:blipFill>
              <a:blip r:embed="rId16"/>
              <a:stretch/>
            </p:blipFill>
            <p:spPr>
              <a:xfrm>
                <a:off x="755640" y="4824720"/>
                <a:ext cx="1238400" cy="3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 rot="4909800">
                <a:off x="1268640" y="4448520"/>
                <a:ext cx="18612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67 Cilindro"/>
            <p:cNvGrpSpPr/>
            <p:nvPr/>
          </p:nvGrpSpPr>
          <p:grpSpPr>
            <a:xfrm>
              <a:off x="761760" y="4986720"/>
              <a:ext cx="1238400" cy="381960"/>
              <a:chOff x="761760" y="4986720"/>
              <a:chExt cx="1238400" cy="381960"/>
            </a:xfrm>
          </p:grpSpPr>
          <p:pic>
            <p:nvPicPr>
              <p:cNvPr id="272" name="67 Cilindro" descr=""/>
              <p:cNvPicPr/>
              <p:nvPr/>
            </p:nvPicPr>
            <p:blipFill>
              <a:blip r:embed="rId17"/>
              <a:stretch/>
            </p:blipFill>
            <p:spPr>
              <a:xfrm>
                <a:off x="761760" y="4986720"/>
                <a:ext cx="1238400" cy="38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 rot="4909800">
                <a:off x="1275480" y="4614120"/>
                <a:ext cx="18612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68 Cilindro"/>
            <p:cNvGrpSpPr/>
            <p:nvPr/>
          </p:nvGrpSpPr>
          <p:grpSpPr>
            <a:xfrm>
              <a:off x="714240" y="4871160"/>
              <a:ext cx="1232640" cy="370440"/>
              <a:chOff x="714240" y="4871160"/>
              <a:chExt cx="1232640" cy="370440"/>
            </a:xfrm>
          </p:grpSpPr>
          <p:pic>
            <p:nvPicPr>
              <p:cNvPr id="275" name="68 Cilindro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4240" y="4871160"/>
                <a:ext cx="1232640" cy="37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 rot="4909800">
                <a:off x="1228680" y="4491360"/>
                <a:ext cx="17784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69 Cilindro"/>
            <p:cNvGrpSpPr/>
            <p:nvPr/>
          </p:nvGrpSpPr>
          <p:grpSpPr>
            <a:xfrm>
              <a:off x="922320" y="4801680"/>
              <a:ext cx="124920" cy="613440"/>
              <a:chOff x="922320" y="4801680"/>
              <a:chExt cx="124920" cy="613440"/>
            </a:xfrm>
          </p:grpSpPr>
          <p:pic>
            <p:nvPicPr>
              <p:cNvPr id="278" name="69 Cilindro" descr=""/>
              <p:cNvPicPr/>
              <p:nvPr/>
            </p:nvPicPr>
            <p:blipFill>
              <a:blip r:embed="rId19"/>
              <a:stretch/>
            </p:blipFill>
            <p:spPr>
              <a:xfrm>
                <a:off x="922320" y="4801680"/>
                <a:ext cx="124920" cy="61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 rot="10800000">
                <a:off x="939600" y="4830120"/>
                <a:ext cx="88200" cy="54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70 Cilindro"/>
            <p:cNvGrpSpPr/>
            <p:nvPr/>
          </p:nvGrpSpPr>
          <p:grpSpPr>
            <a:xfrm>
              <a:off x="1714320" y="4714920"/>
              <a:ext cx="124920" cy="619200"/>
              <a:chOff x="1714320" y="4714920"/>
              <a:chExt cx="124920" cy="619200"/>
            </a:xfrm>
          </p:grpSpPr>
          <p:pic>
            <p:nvPicPr>
              <p:cNvPr id="281" name="70 Cilindro" descr=""/>
              <p:cNvPicPr/>
              <p:nvPr/>
            </p:nvPicPr>
            <p:blipFill>
              <a:blip r:embed="rId20"/>
              <a:stretch/>
            </p:blipFill>
            <p:spPr>
              <a:xfrm>
                <a:off x="1714320" y="4714920"/>
                <a:ext cx="124920" cy="61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 rot="10800000">
                <a:off x="1732320" y="4745160"/>
                <a:ext cx="88200" cy="54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84 Grupo"/>
          <p:cNvGrpSpPr/>
          <p:nvPr/>
        </p:nvGrpSpPr>
        <p:grpSpPr>
          <a:xfrm>
            <a:off x="1500120" y="4071960"/>
            <a:ext cx="662040" cy="271440"/>
            <a:chOff x="1500120" y="4071960"/>
            <a:chExt cx="662040" cy="271440"/>
          </a:xfrm>
        </p:grpSpPr>
        <p:grpSp>
          <p:nvGrpSpPr>
            <p:cNvPr id="284" name="72 Cilindro"/>
            <p:cNvGrpSpPr/>
            <p:nvPr/>
          </p:nvGrpSpPr>
          <p:grpSpPr>
            <a:xfrm>
              <a:off x="1523160" y="4098600"/>
              <a:ext cx="639000" cy="175680"/>
              <a:chOff x="1523160" y="4098600"/>
              <a:chExt cx="639000" cy="175680"/>
            </a:xfrm>
          </p:grpSpPr>
          <p:pic>
            <p:nvPicPr>
              <p:cNvPr id="285" name="72 Cilindro" descr=""/>
              <p:cNvPicPr/>
              <p:nvPr/>
            </p:nvPicPr>
            <p:blipFill>
              <a:blip r:embed="rId21"/>
              <a:stretch/>
            </p:blipFill>
            <p:spPr>
              <a:xfrm>
                <a:off x="1523160" y="4098600"/>
                <a:ext cx="639000" cy="17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 rot="4909800">
                <a:off x="1805040" y="3898800"/>
                <a:ext cx="6624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73 Cilindro"/>
            <p:cNvGrpSpPr/>
            <p:nvPr/>
          </p:nvGrpSpPr>
          <p:grpSpPr>
            <a:xfrm>
              <a:off x="1528920" y="4156920"/>
              <a:ext cx="633240" cy="175680"/>
              <a:chOff x="1528920" y="4156920"/>
              <a:chExt cx="633240" cy="175680"/>
            </a:xfrm>
          </p:grpSpPr>
          <p:pic>
            <p:nvPicPr>
              <p:cNvPr id="288" name="73 Cilindro" descr=""/>
              <p:cNvPicPr/>
              <p:nvPr/>
            </p:nvPicPr>
            <p:blipFill>
              <a:blip r:embed="rId22"/>
              <a:stretch/>
            </p:blipFill>
            <p:spPr>
              <a:xfrm>
                <a:off x="1528920" y="4156920"/>
                <a:ext cx="633240" cy="17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"/>
              <p:cNvSpPr/>
              <p:nvPr/>
            </p:nvSpPr>
            <p:spPr>
              <a:xfrm rot="4909800">
                <a:off x="1808280" y="3957480"/>
                <a:ext cx="6624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74 Cilindro"/>
            <p:cNvGrpSpPr/>
            <p:nvPr/>
          </p:nvGrpSpPr>
          <p:grpSpPr>
            <a:xfrm>
              <a:off x="1500120" y="4114440"/>
              <a:ext cx="639000" cy="175680"/>
              <a:chOff x="1500120" y="4114440"/>
              <a:chExt cx="639000" cy="175680"/>
            </a:xfrm>
          </p:grpSpPr>
          <p:pic>
            <p:nvPicPr>
              <p:cNvPr id="291" name="74 Cilindro" descr=""/>
              <p:cNvPicPr/>
              <p:nvPr/>
            </p:nvPicPr>
            <p:blipFill>
              <a:blip r:embed="rId23"/>
              <a:stretch/>
            </p:blipFill>
            <p:spPr>
              <a:xfrm>
                <a:off x="1500120" y="4114440"/>
                <a:ext cx="639000" cy="17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 rot="4909800">
                <a:off x="1784160" y="3913920"/>
                <a:ext cx="6336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75 Cilindro"/>
            <p:cNvGrpSpPr/>
            <p:nvPr/>
          </p:nvGrpSpPr>
          <p:grpSpPr>
            <a:xfrm>
              <a:off x="1610280" y="4103640"/>
              <a:ext cx="75240" cy="239760"/>
              <a:chOff x="1610280" y="4103640"/>
              <a:chExt cx="75240" cy="239760"/>
            </a:xfrm>
          </p:grpSpPr>
          <p:pic>
            <p:nvPicPr>
              <p:cNvPr id="294" name="75 Cilindro" descr=""/>
              <p:cNvPicPr/>
              <p:nvPr/>
            </p:nvPicPr>
            <p:blipFill>
              <a:blip r:embed="rId24"/>
              <a:stretch/>
            </p:blipFill>
            <p:spPr>
              <a:xfrm>
                <a:off x="1610280" y="4103640"/>
                <a:ext cx="75240" cy="23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 rot="10800000">
                <a:off x="1624680" y="4122360"/>
                <a:ext cx="43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76 Cilindro"/>
            <p:cNvGrpSpPr/>
            <p:nvPr/>
          </p:nvGrpSpPr>
          <p:grpSpPr>
            <a:xfrm>
              <a:off x="2005560" y="4071960"/>
              <a:ext cx="81000" cy="239760"/>
              <a:chOff x="2005560" y="4071960"/>
              <a:chExt cx="81000" cy="239760"/>
            </a:xfrm>
          </p:grpSpPr>
          <p:pic>
            <p:nvPicPr>
              <p:cNvPr id="297" name="76 Cilindro" descr=""/>
              <p:cNvPicPr/>
              <p:nvPr/>
            </p:nvPicPr>
            <p:blipFill>
              <a:blip r:embed="rId25"/>
              <a:stretch/>
            </p:blipFill>
            <p:spPr>
              <a:xfrm>
                <a:off x="2005560" y="4071960"/>
                <a:ext cx="81000" cy="23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 rot="10800000">
                <a:off x="2023200" y="4092480"/>
                <a:ext cx="43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85 Rectángulo"/>
          <p:cNvSpPr/>
          <p:nvPr/>
        </p:nvSpPr>
        <p:spPr>
          <a:xfrm>
            <a:off x="214200" y="5000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Garamond"/>
              </a:rPr>
              <a:t>Experimento 1:</a:t>
            </a: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Construcción de barreras de retención  que eviten la posible pérdida de semillas por arrastre pendiente 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1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6 Rectángulo"/>
            <p:cNvSpPr/>
            <p:nvPr/>
          </p:nvSpPr>
          <p:spPr>
            <a:xfrm>
              <a:off x="64800" y="77760"/>
              <a:ext cx="9001440" cy="671544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4 CuadroTexto"/>
          <p:cNvSpPr/>
          <p:nvPr/>
        </p:nvSpPr>
        <p:spPr>
          <a:xfrm>
            <a:off x="500040" y="1020600"/>
            <a:ext cx="3643200" cy="825480"/>
          </a:xfrm>
          <a:prstGeom prst="rect">
            <a:avLst/>
          </a:prstGeom>
          <a:solidFill>
            <a:srgbClr val="4f81bd">
              <a:alpha val="10000"/>
            </a:srgbClr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Garamond"/>
              </a:rPr>
              <a:t>Hipótesis 2.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emillas v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8 CuadroTexto"/>
          <p:cNvSpPr/>
          <p:nvPr/>
        </p:nvSpPr>
        <p:spPr>
          <a:xfrm>
            <a:off x="169920" y="1619280"/>
            <a:ext cx="89740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Garamond"/>
              </a:rPr>
              <a:t>Experimento 2: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Vallado de parcelas que eviten los impactos por herbivoría, recolección y pisot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14 Grupo"/>
          <p:cNvGrpSpPr/>
          <p:nvPr/>
        </p:nvGrpSpPr>
        <p:grpSpPr>
          <a:xfrm>
            <a:off x="38520" y="2684520"/>
            <a:ext cx="8962560" cy="3610080"/>
            <a:chOff x="38520" y="2684520"/>
            <a:chExt cx="8962560" cy="3610080"/>
          </a:xfrm>
        </p:grpSpPr>
        <p:cxnSp>
          <p:nvCxnSpPr>
            <p:cNvPr id="307" name="20 Conector recto de flecha"/>
            <p:cNvCxnSpPr/>
            <p:nvPr/>
          </p:nvCxnSpPr>
          <p:spPr>
            <a:xfrm flipV="1">
              <a:off x="171360" y="3142440"/>
              <a:ext cx="257760" cy="1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08" name="21 Conector recto de flecha"/>
            <p:cNvCxnSpPr/>
            <p:nvPr/>
          </p:nvCxnSpPr>
          <p:spPr>
            <a:xfrm>
              <a:off x="155520" y="5283360"/>
              <a:ext cx="202320" cy="3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09" name="23 Conector recto"/>
            <p:cNvSpPr/>
            <p:nvPr/>
          </p:nvSpPr>
          <p:spPr>
            <a:xfrm flipH="1">
              <a:off x="155520" y="2684520"/>
              <a:ext cx="7920" cy="2610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26 CuadroTexto"/>
            <p:cNvSpPr/>
            <p:nvPr/>
          </p:nvSpPr>
          <p:spPr>
            <a:xfrm>
              <a:off x="428400" y="2943000"/>
              <a:ext cx="85726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 u="sng">
                  <a:solidFill>
                    <a:srgbClr val="ffffff"/>
                  </a:solidFill>
                  <a:uFillTx/>
                  <a:latin typeface="Garamond"/>
                </a:rPr>
                <a:t>Aparecen plántulas</a:t>
              </a:r>
              <a:r>
                <a:rPr b="0" lang="es-ES" sz="2000" spc="-1" strike="noStrike">
                  <a:solidFill>
                    <a:srgbClr val="ffffff"/>
                  </a:solidFill>
                  <a:latin typeface="Garamond"/>
                </a:rPr>
                <a:t>:  </a:t>
              </a: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b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plántulas no se desarrollan debido a la herbivoría, recolección y pisot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Garamond"/>
                </a:rPr>
                <a:t>                 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b050"/>
                  </a:solidFill>
                  <a:latin typeface="Garamond"/>
                </a:rPr>
                <a:t>         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30 Rectángulo"/>
            <p:cNvSpPr/>
            <p:nvPr/>
          </p:nvSpPr>
          <p:spPr>
            <a:xfrm>
              <a:off x="2609640" y="4429080"/>
              <a:ext cx="61722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a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plántulas no se instalan por exceso de pendiente        (las semillas son arrastrad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c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semillas no germinan debido a la alteración de las condiciones del ento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37 Abrir llave"/>
            <p:cNvSpPr/>
            <p:nvPr/>
          </p:nvSpPr>
          <p:spPr>
            <a:xfrm>
              <a:off x="2604960" y="4268880"/>
              <a:ext cx="71280" cy="20257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800 h 2025720"/>
                <a:gd name="textAreaBottom" fmla="*/ 2023920 h 202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2"/>
                    <a:pt x="10800" y="63"/>
                  </a:cubicBezTo>
                  <a:lnTo>
                    <a:pt x="10800" y="10737"/>
                  </a:lnTo>
                  <a:cubicBezTo>
                    <a:pt x="10800" y="10769"/>
                    <a:pt x="5400" y="10800"/>
                    <a:pt x="0" y="10800"/>
                  </a:cubicBezTo>
                  <a:cubicBezTo>
                    <a:pt x="5400" y="10800"/>
                    <a:pt x="10800" y="10832"/>
                    <a:pt x="10800" y="10863"/>
                  </a:cubicBezTo>
                  <a:lnTo>
                    <a:pt x="10800" y="21537"/>
                  </a:lnTo>
                  <a:cubicBezTo>
                    <a:pt x="10800" y="21569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13 Rectángulo"/>
            <p:cNvSpPr/>
            <p:nvPr/>
          </p:nvSpPr>
          <p:spPr>
            <a:xfrm>
              <a:off x="38520" y="5078520"/>
              <a:ext cx="298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 u="sng">
                  <a:solidFill>
                    <a:srgbClr val="ffffff"/>
                  </a:solidFill>
                  <a:uFillTx/>
                  <a:latin typeface="Garamond"/>
                </a:rPr>
                <a:t>No aparecen plántulas</a:t>
              </a:r>
              <a:r>
                <a:rPr b="0" lang="es-ES" sz="20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36 Grupo"/>
          <p:cNvGrpSpPr/>
          <p:nvPr/>
        </p:nvGrpSpPr>
        <p:grpSpPr>
          <a:xfrm>
            <a:off x="3071880" y="3214800"/>
            <a:ext cx="3357360" cy="2714400"/>
            <a:chOff x="3071880" y="3214800"/>
            <a:chExt cx="3357360" cy="2714400"/>
          </a:xfrm>
        </p:grpSpPr>
        <p:sp>
          <p:nvSpPr>
            <p:cNvPr id="315" name="35 Rectángulo"/>
            <p:cNvSpPr/>
            <p:nvPr/>
          </p:nvSpPr>
          <p:spPr>
            <a:xfrm>
              <a:off x="3071880" y="3214800"/>
              <a:ext cx="3357360" cy="27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80 Grupo"/>
            <p:cNvGrpSpPr/>
            <p:nvPr/>
          </p:nvGrpSpPr>
          <p:grpSpPr>
            <a:xfrm>
              <a:off x="3743280" y="3440880"/>
              <a:ext cx="2044440" cy="2129040"/>
              <a:chOff x="3743280" y="3440880"/>
              <a:chExt cx="2044440" cy="2129040"/>
            </a:xfrm>
          </p:grpSpPr>
          <p:grpSp>
            <p:nvGrpSpPr>
              <p:cNvPr id="317" name="16 Cilindro"/>
              <p:cNvGrpSpPr/>
              <p:nvPr/>
            </p:nvGrpSpPr>
            <p:grpSpPr>
              <a:xfrm>
                <a:off x="4276800" y="3909240"/>
                <a:ext cx="1450800" cy="431640"/>
                <a:chOff x="4276800" y="3909240"/>
                <a:chExt cx="1450800" cy="431640"/>
              </a:xfrm>
            </p:grpSpPr>
            <p:pic>
              <p:nvPicPr>
                <p:cNvPr id="318" name="16 Cilindro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276800" y="3909240"/>
                  <a:ext cx="145080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9" name=""/>
                <p:cNvSpPr/>
                <p:nvPr/>
              </p:nvSpPr>
              <p:spPr>
                <a:xfrm rot="6010200">
                  <a:off x="4919040" y="3436200"/>
                  <a:ext cx="147960" cy="137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18 Cilindro"/>
              <p:cNvGrpSpPr/>
              <p:nvPr/>
            </p:nvGrpSpPr>
            <p:grpSpPr>
              <a:xfrm>
                <a:off x="4192920" y="3440880"/>
                <a:ext cx="1450800" cy="437760"/>
                <a:chOff x="4192920" y="3440880"/>
                <a:chExt cx="1450800" cy="437760"/>
              </a:xfrm>
            </p:grpSpPr>
            <p:pic>
              <p:nvPicPr>
                <p:cNvPr id="321" name="18 Cilindro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192920" y="3440880"/>
                  <a:ext cx="1450800" cy="437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2" name=""/>
                <p:cNvSpPr/>
                <p:nvPr/>
              </p:nvSpPr>
              <p:spPr>
                <a:xfrm rot="6010200">
                  <a:off x="4833720" y="2971440"/>
                  <a:ext cx="147960" cy="137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19 Cilindro"/>
              <p:cNvGrpSpPr/>
              <p:nvPr/>
            </p:nvGrpSpPr>
            <p:grpSpPr>
              <a:xfrm>
                <a:off x="3749040" y="3446640"/>
                <a:ext cx="617400" cy="1106640"/>
                <a:chOff x="3749040" y="3446640"/>
                <a:chExt cx="617400" cy="1106640"/>
              </a:xfrm>
            </p:grpSpPr>
            <p:pic>
              <p:nvPicPr>
                <p:cNvPr id="324" name="19 Cilindro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749040" y="3446640"/>
                  <a:ext cx="617400" cy="11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5" name=""/>
                <p:cNvSpPr/>
                <p:nvPr/>
              </p:nvSpPr>
              <p:spPr>
                <a:xfrm rot="1546800">
                  <a:off x="3997800" y="3452400"/>
                  <a:ext cx="1119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22 Cilindro"/>
              <p:cNvGrpSpPr/>
              <p:nvPr/>
            </p:nvGrpSpPr>
            <p:grpSpPr>
              <a:xfrm>
                <a:off x="3749040" y="3903120"/>
                <a:ext cx="617400" cy="1099440"/>
                <a:chOff x="3749040" y="3903120"/>
                <a:chExt cx="617400" cy="1099440"/>
              </a:xfrm>
            </p:grpSpPr>
            <p:pic>
              <p:nvPicPr>
                <p:cNvPr id="327" name="22 Cilindro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749040" y="3903120"/>
                  <a:ext cx="617400" cy="109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8" name=""/>
                <p:cNvSpPr/>
                <p:nvPr/>
              </p:nvSpPr>
              <p:spPr>
                <a:xfrm rot="1546800">
                  <a:off x="3997800" y="3903840"/>
                  <a:ext cx="111960" cy="110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9" name="Picture 3" descr="C:\Users\Sanjoa\AppData\Local\Microsoft\Windows\Temporary Internet Files\Content.IE5\8Y1L5Q67\MCj01229730000[1].wmf"/>
              <p:cNvPicPr/>
              <p:nvPr/>
            </p:nvPicPr>
            <p:blipFill>
              <a:blip r:embed="rId6"/>
              <a:stretch/>
            </p:blipFill>
            <p:spPr>
              <a:xfrm flipH="1">
                <a:off x="4532040" y="4586040"/>
                <a:ext cx="273240" cy="541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0" name="25 Cilindro"/>
              <p:cNvGrpSpPr/>
              <p:nvPr/>
            </p:nvGrpSpPr>
            <p:grpSpPr>
              <a:xfrm>
                <a:off x="3839040" y="4809600"/>
                <a:ext cx="1450800" cy="431640"/>
                <a:chOff x="3839040" y="4809600"/>
                <a:chExt cx="1450800" cy="431640"/>
              </a:xfrm>
            </p:grpSpPr>
            <p:pic>
              <p:nvPicPr>
                <p:cNvPr id="331" name="25 Cilindro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39040" y="4809600"/>
                  <a:ext cx="145080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2" name=""/>
                <p:cNvSpPr/>
                <p:nvPr/>
              </p:nvSpPr>
              <p:spPr>
                <a:xfrm rot="6010200">
                  <a:off x="4478760" y="4339080"/>
                  <a:ext cx="147960" cy="137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3" name="Picture 3" descr="C:\Users\Sanjoa\AppData\Local\Microsoft\Windows\Temporary Internet Files\Content.IE5\8Y1L5Q67\MCj01229730000[1].wmf"/>
              <p:cNvPicPr/>
              <p:nvPr/>
            </p:nvPicPr>
            <p:blipFill>
              <a:blip r:embed="rId8"/>
              <a:stretch/>
            </p:blipFill>
            <p:spPr>
              <a:xfrm flipH="1">
                <a:off x="4862160" y="4247640"/>
                <a:ext cx="273240" cy="54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Picture 3" descr="C:\Users\Sanjoa\AppData\Local\Microsoft\Windows\Temporary Internet Files\Content.IE5\8Y1L5Q67\MCj01229730000[1].wmf"/>
              <p:cNvPicPr/>
              <p:nvPr/>
            </p:nvPicPr>
            <p:blipFill>
              <a:blip r:embed="rId9"/>
              <a:stretch/>
            </p:blipFill>
            <p:spPr>
              <a:xfrm>
                <a:off x="4201920" y="4247640"/>
                <a:ext cx="330120" cy="654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5" name="28 Cilindro"/>
              <p:cNvGrpSpPr/>
              <p:nvPr/>
            </p:nvGrpSpPr>
            <p:grpSpPr>
              <a:xfrm>
                <a:off x="4186800" y="3440880"/>
                <a:ext cx="173880" cy="997560"/>
                <a:chOff x="4186800" y="3440880"/>
                <a:chExt cx="173880" cy="997560"/>
              </a:xfrm>
            </p:grpSpPr>
            <p:pic>
              <p:nvPicPr>
                <p:cNvPr id="336" name="28 Cilindro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186800" y="3440880"/>
                  <a:ext cx="173880" cy="9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7" name=""/>
                <p:cNvSpPr/>
                <p:nvPr/>
              </p:nvSpPr>
              <p:spPr>
                <a:xfrm rot="10800000">
                  <a:off x="4201920" y="3475440"/>
                  <a:ext cx="138960" cy="91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29 Cilindro"/>
              <p:cNvGrpSpPr/>
              <p:nvPr/>
            </p:nvGrpSpPr>
            <p:grpSpPr>
              <a:xfrm>
                <a:off x="3749040" y="4347360"/>
                <a:ext cx="1450800" cy="431640"/>
                <a:chOff x="3749040" y="4347360"/>
                <a:chExt cx="1450800" cy="431640"/>
              </a:xfrm>
            </p:grpSpPr>
            <p:pic>
              <p:nvPicPr>
                <p:cNvPr id="339" name="29 Cilindro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749040" y="4347360"/>
                  <a:ext cx="145080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" name=""/>
                <p:cNvSpPr/>
                <p:nvPr/>
              </p:nvSpPr>
              <p:spPr>
                <a:xfrm rot="6010200">
                  <a:off x="4393080" y="3873960"/>
                  <a:ext cx="147960" cy="137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30 Cilindro"/>
              <p:cNvGrpSpPr/>
              <p:nvPr/>
            </p:nvGrpSpPr>
            <p:grpSpPr>
              <a:xfrm>
                <a:off x="3743280" y="4231440"/>
                <a:ext cx="173880" cy="997560"/>
                <a:chOff x="3743280" y="4231440"/>
                <a:chExt cx="173880" cy="997560"/>
              </a:xfrm>
            </p:grpSpPr>
            <p:pic>
              <p:nvPicPr>
                <p:cNvPr id="342" name="30 Cilindro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743280" y="4231440"/>
                  <a:ext cx="173880" cy="9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3" name=""/>
                <p:cNvSpPr/>
                <p:nvPr/>
              </p:nvSpPr>
              <p:spPr>
                <a:xfrm rot="10800000">
                  <a:off x="3761640" y="4264920"/>
                  <a:ext cx="138960" cy="91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31 Cilindro"/>
              <p:cNvGrpSpPr/>
              <p:nvPr/>
            </p:nvGrpSpPr>
            <p:grpSpPr>
              <a:xfrm>
                <a:off x="5128200" y="3672000"/>
                <a:ext cx="623520" cy="1106280"/>
                <a:chOff x="5128200" y="3672000"/>
                <a:chExt cx="623520" cy="1106280"/>
              </a:xfrm>
            </p:grpSpPr>
            <p:pic>
              <p:nvPicPr>
                <p:cNvPr id="345" name="31 Cilindro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128200" y="3672000"/>
                  <a:ext cx="623520" cy="110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6" name=""/>
                <p:cNvSpPr/>
                <p:nvPr/>
              </p:nvSpPr>
              <p:spPr>
                <a:xfrm rot="1546800">
                  <a:off x="5379120" y="3678480"/>
                  <a:ext cx="111960" cy="110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32 Cilindro"/>
              <p:cNvGrpSpPr/>
              <p:nvPr/>
            </p:nvGrpSpPr>
            <p:grpSpPr>
              <a:xfrm>
                <a:off x="5140440" y="4170960"/>
                <a:ext cx="623520" cy="1098720"/>
                <a:chOff x="5140440" y="4170960"/>
                <a:chExt cx="623520" cy="1098720"/>
              </a:xfrm>
            </p:grpSpPr>
            <p:pic>
              <p:nvPicPr>
                <p:cNvPr id="348" name="32 Cilindro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140440" y="4170960"/>
                  <a:ext cx="623520" cy="109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" name=""/>
                <p:cNvSpPr/>
                <p:nvPr/>
              </p:nvSpPr>
              <p:spPr>
                <a:xfrm rot="1546800">
                  <a:off x="5391360" y="4172400"/>
                  <a:ext cx="111960" cy="110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33 Cilindro"/>
              <p:cNvGrpSpPr/>
              <p:nvPr/>
            </p:nvGrpSpPr>
            <p:grpSpPr>
              <a:xfrm>
                <a:off x="5062320" y="4566240"/>
                <a:ext cx="179640" cy="1003680"/>
                <a:chOff x="5062320" y="4566240"/>
                <a:chExt cx="179640" cy="1003680"/>
              </a:xfrm>
            </p:grpSpPr>
            <p:pic>
              <p:nvPicPr>
                <p:cNvPr id="351" name="33 Cilindro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062320" y="4566240"/>
                  <a:ext cx="179640" cy="100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2" name=""/>
                <p:cNvSpPr/>
                <p:nvPr/>
              </p:nvSpPr>
              <p:spPr>
                <a:xfrm rot="10800000">
                  <a:off x="5082840" y="4603680"/>
                  <a:ext cx="138960" cy="91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34 Cilindro"/>
              <p:cNvGrpSpPr/>
              <p:nvPr/>
            </p:nvGrpSpPr>
            <p:grpSpPr>
              <a:xfrm>
                <a:off x="5613840" y="3665880"/>
                <a:ext cx="173880" cy="997560"/>
                <a:chOff x="5613840" y="3665880"/>
                <a:chExt cx="173880" cy="997560"/>
              </a:xfrm>
            </p:grpSpPr>
            <p:pic>
              <p:nvPicPr>
                <p:cNvPr id="354" name="34 Cilindro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613840" y="3665880"/>
                  <a:ext cx="173880" cy="9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5" name=""/>
                <p:cNvSpPr/>
                <p:nvPr/>
              </p:nvSpPr>
              <p:spPr>
                <a:xfrm rot="10800000">
                  <a:off x="5633280" y="3701160"/>
                  <a:ext cx="138960" cy="91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E:\Mis Documentos\MASTER\ASIGNATURAS\Restauracion de Poblaciones\Trabajo\Fotos Puig Massanella\2008-12-05 0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57" name="59 Rectángulo"/>
          <p:cNvSpPr/>
          <p:nvPr/>
        </p:nvSpPr>
        <p:spPr>
          <a:xfrm>
            <a:off x="214200" y="357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Garamond"/>
              </a:rPr>
              <a:t>Experimento 2:</a:t>
            </a: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Vallado de parcelas que eviten los impactos por herbivoría, recolección y piso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80 Grupo"/>
          <p:cNvGrpSpPr/>
          <p:nvPr/>
        </p:nvGrpSpPr>
        <p:grpSpPr>
          <a:xfrm>
            <a:off x="1285920" y="4786200"/>
            <a:ext cx="1305000" cy="1344600"/>
            <a:chOff x="1285920" y="4786200"/>
            <a:chExt cx="1305000" cy="1344600"/>
          </a:xfrm>
        </p:grpSpPr>
        <p:grpSp>
          <p:nvGrpSpPr>
            <p:cNvPr id="359" name="78 Cilindro"/>
            <p:cNvGrpSpPr/>
            <p:nvPr/>
          </p:nvGrpSpPr>
          <p:grpSpPr>
            <a:xfrm>
              <a:off x="1623960" y="5075640"/>
              <a:ext cx="925560" cy="289440"/>
              <a:chOff x="1623960" y="5075640"/>
              <a:chExt cx="925560" cy="289440"/>
            </a:xfrm>
          </p:grpSpPr>
          <p:pic>
            <p:nvPicPr>
              <p:cNvPr id="360" name="78 Cilindro" descr=""/>
              <p:cNvPicPr/>
              <p:nvPr/>
            </p:nvPicPr>
            <p:blipFill>
              <a:blip r:embed="rId2"/>
              <a:stretch/>
            </p:blipFill>
            <p:spPr>
              <a:xfrm>
                <a:off x="1623960" y="5075640"/>
                <a:ext cx="9255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6010200">
                <a:off x="2035080" y="4784040"/>
                <a:ext cx="9252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79 Cilindro"/>
            <p:cNvGrpSpPr/>
            <p:nvPr/>
          </p:nvGrpSpPr>
          <p:grpSpPr>
            <a:xfrm>
              <a:off x="1570680" y="4786200"/>
              <a:ext cx="925560" cy="283320"/>
              <a:chOff x="1570680" y="4786200"/>
              <a:chExt cx="925560" cy="283320"/>
            </a:xfrm>
          </p:grpSpPr>
          <p:pic>
            <p:nvPicPr>
              <p:cNvPr id="363" name="79 Cilindro" descr=""/>
              <p:cNvPicPr/>
              <p:nvPr/>
            </p:nvPicPr>
            <p:blipFill>
              <a:blip r:embed="rId3"/>
              <a:stretch/>
            </p:blipFill>
            <p:spPr>
              <a:xfrm>
                <a:off x="1570680" y="4786200"/>
                <a:ext cx="925560" cy="28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6010200">
                <a:off x="1981080" y="4492800"/>
                <a:ext cx="9252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76 Cilindro"/>
            <p:cNvGrpSpPr/>
            <p:nvPr/>
          </p:nvGrpSpPr>
          <p:grpSpPr>
            <a:xfrm>
              <a:off x="1285920" y="4786200"/>
              <a:ext cx="403200" cy="711360"/>
              <a:chOff x="1285920" y="4786200"/>
              <a:chExt cx="403200" cy="711360"/>
            </a:xfrm>
          </p:grpSpPr>
          <p:pic>
            <p:nvPicPr>
              <p:cNvPr id="366" name="76 Cilindro" descr=""/>
              <p:cNvPicPr/>
              <p:nvPr/>
            </p:nvPicPr>
            <p:blipFill>
              <a:blip r:embed="rId4"/>
              <a:stretch/>
            </p:blipFill>
            <p:spPr>
              <a:xfrm>
                <a:off x="1285920" y="4786200"/>
                <a:ext cx="403200" cy="71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1546800">
                <a:off x="1452960" y="4798440"/>
                <a:ext cx="7056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77 Cilindro"/>
            <p:cNvGrpSpPr/>
            <p:nvPr/>
          </p:nvGrpSpPr>
          <p:grpSpPr>
            <a:xfrm>
              <a:off x="1285920" y="5069520"/>
              <a:ext cx="403200" cy="711360"/>
              <a:chOff x="1285920" y="5069520"/>
              <a:chExt cx="403200" cy="711360"/>
            </a:xfrm>
          </p:grpSpPr>
          <p:pic>
            <p:nvPicPr>
              <p:cNvPr id="369" name="77 Cilindro" descr=""/>
              <p:cNvPicPr/>
              <p:nvPr/>
            </p:nvPicPr>
            <p:blipFill>
              <a:blip r:embed="rId5"/>
              <a:stretch/>
            </p:blipFill>
            <p:spPr>
              <a:xfrm>
                <a:off x="1285920" y="5069520"/>
                <a:ext cx="403200" cy="71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 rot="1546800">
                <a:off x="1452960" y="5081040"/>
                <a:ext cx="7056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1" name="Picture 3" descr="C:\Users\Sanjoa\AppData\Local\Microsoft\Windows\Temporary Internet Files\Content.IE5\8Y1L5Q67\MCj01229730000[1].wmf"/>
            <p:cNvPicPr/>
            <p:nvPr/>
          </p:nvPicPr>
          <p:blipFill>
            <a:blip r:embed="rId6"/>
            <a:stretch/>
          </p:blipFill>
          <p:spPr>
            <a:xfrm flipH="1">
              <a:off x="1789560" y="5508000"/>
              <a:ext cx="172440" cy="33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2" name="63 Cilindro"/>
            <p:cNvGrpSpPr/>
            <p:nvPr/>
          </p:nvGrpSpPr>
          <p:grpSpPr>
            <a:xfrm>
              <a:off x="1344960" y="5642280"/>
              <a:ext cx="931320" cy="283320"/>
              <a:chOff x="1344960" y="5642280"/>
              <a:chExt cx="931320" cy="283320"/>
            </a:xfrm>
          </p:grpSpPr>
          <p:pic>
            <p:nvPicPr>
              <p:cNvPr id="373" name="63 Cilindro" descr=""/>
              <p:cNvPicPr/>
              <p:nvPr/>
            </p:nvPicPr>
            <p:blipFill>
              <a:blip r:embed="rId7"/>
              <a:stretch/>
            </p:blipFill>
            <p:spPr>
              <a:xfrm>
                <a:off x="1344960" y="5642280"/>
                <a:ext cx="931320" cy="28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 rot="6010200">
                <a:off x="1756800" y="5348880"/>
                <a:ext cx="9252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5" name="Picture 3" descr="C:\Users\Sanjoa\AppData\Local\Microsoft\Windows\Temporary Internet Files\Content.IE5\8Y1L5Q67\MCj01229730000[1].wmf"/>
            <p:cNvPicPr/>
            <p:nvPr/>
          </p:nvPicPr>
          <p:blipFill>
            <a:blip r:embed="rId8"/>
            <a:stretch/>
          </p:blipFill>
          <p:spPr>
            <a:xfrm flipH="1">
              <a:off x="1998360" y="5295960"/>
              <a:ext cx="17244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3" descr="C:\Users\Sanjoa\AppData\Local\Microsoft\Windows\Temporary Internet Files\Content.IE5\8Y1L5Q67\MCj01229730000[1].wmf"/>
            <p:cNvPicPr/>
            <p:nvPr/>
          </p:nvPicPr>
          <p:blipFill>
            <a:blip r:embed="rId9"/>
            <a:stretch/>
          </p:blipFill>
          <p:spPr>
            <a:xfrm>
              <a:off x="1581480" y="5295960"/>
              <a:ext cx="208440" cy="40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7" name="71 Cilindro"/>
            <p:cNvGrpSpPr/>
            <p:nvPr/>
          </p:nvGrpSpPr>
          <p:grpSpPr>
            <a:xfrm>
              <a:off x="1564560" y="4786200"/>
              <a:ext cx="124560" cy="639000"/>
              <a:chOff x="1564560" y="4786200"/>
              <a:chExt cx="124560" cy="639000"/>
            </a:xfrm>
          </p:grpSpPr>
          <p:pic>
            <p:nvPicPr>
              <p:cNvPr id="378" name="71 Cilindro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64560" y="4786200"/>
                <a:ext cx="124560" cy="6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 rot="10800000">
                <a:off x="1581120" y="4812120"/>
                <a:ext cx="8784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73 Cilindro"/>
            <p:cNvGrpSpPr/>
            <p:nvPr/>
          </p:nvGrpSpPr>
          <p:grpSpPr>
            <a:xfrm>
              <a:off x="1291680" y="5347080"/>
              <a:ext cx="925560" cy="289440"/>
              <a:chOff x="1291680" y="5347080"/>
              <a:chExt cx="925560" cy="289440"/>
            </a:xfrm>
          </p:grpSpPr>
          <p:pic>
            <p:nvPicPr>
              <p:cNvPr id="381" name="73 Cilindro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91680" y="5347080"/>
                <a:ext cx="9255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 rot="6010200">
                <a:off x="1702800" y="5058000"/>
                <a:ext cx="9252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64 Cilindro"/>
            <p:cNvGrpSpPr/>
            <p:nvPr/>
          </p:nvGrpSpPr>
          <p:grpSpPr>
            <a:xfrm>
              <a:off x="1285920" y="5280480"/>
              <a:ext cx="124560" cy="639000"/>
              <a:chOff x="1285920" y="5280480"/>
              <a:chExt cx="124560" cy="639000"/>
            </a:xfrm>
          </p:grpSpPr>
          <p:pic>
            <p:nvPicPr>
              <p:cNvPr id="384" name="64 Cilindro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85920" y="5280480"/>
                <a:ext cx="124560" cy="6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 rot="10800000">
                <a:off x="1303200" y="5306400"/>
                <a:ext cx="8784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74 Cilindro"/>
            <p:cNvGrpSpPr/>
            <p:nvPr/>
          </p:nvGrpSpPr>
          <p:grpSpPr>
            <a:xfrm>
              <a:off x="2157840" y="4930920"/>
              <a:ext cx="403200" cy="705240"/>
              <a:chOff x="2157840" y="4930920"/>
              <a:chExt cx="403200" cy="705240"/>
            </a:xfrm>
          </p:grpSpPr>
          <p:pic>
            <p:nvPicPr>
              <p:cNvPr id="387" name="74 Cilindro" descr=""/>
              <p:cNvPicPr/>
              <p:nvPr/>
            </p:nvPicPr>
            <p:blipFill>
              <a:blip r:embed="rId13"/>
              <a:stretch/>
            </p:blipFill>
            <p:spPr>
              <a:xfrm>
                <a:off x="2157840" y="4930920"/>
                <a:ext cx="403200" cy="70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 rot="1546800">
                <a:off x="2324880" y="4939560"/>
                <a:ext cx="7056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75 Cilindro"/>
            <p:cNvGrpSpPr/>
            <p:nvPr/>
          </p:nvGrpSpPr>
          <p:grpSpPr>
            <a:xfrm>
              <a:off x="2169720" y="5238360"/>
              <a:ext cx="403200" cy="711360"/>
              <a:chOff x="2169720" y="5238360"/>
              <a:chExt cx="403200" cy="711360"/>
            </a:xfrm>
          </p:grpSpPr>
          <p:pic>
            <p:nvPicPr>
              <p:cNvPr id="390" name="75 Cilindro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69720" y="5238360"/>
                <a:ext cx="403200" cy="71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 rot="1546800">
                <a:off x="2332440" y="5248800"/>
                <a:ext cx="7056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65 Cilindro"/>
            <p:cNvGrpSpPr/>
            <p:nvPr/>
          </p:nvGrpSpPr>
          <p:grpSpPr>
            <a:xfrm>
              <a:off x="2122200" y="5491800"/>
              <a:ext cx="118440" cy="639000"/>
              <a:chOff x="2122200" y="5491800"/>
              <a:chExt cx="118440" cy="639000"/>
            </a:xfrm>
          </p:grpSpPr>
          <p:pic>
            <p:nvPicPr>
              <p:cNvPr id="393" name="65 Cilindro" descr=""/>
              <p:cNvPicPr/>
              <p:nvPr/>
            </p:nvPicPr>
            <p:blipFill>
              <a:blip r:embed="rId15"/>
              <a:stretch/>
            </p:blipFill>
            <p:spPr>
              <a:xfrm>
                <a:off x="2122200" y="5491800"/>
                <a:ext cx="118440" cy="6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 rot="10800000">
                <a:off x="2137320" y="5518440"/>
                <a:ext cx="8784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72 Cilindro"/>
            <p:cNvGrpSpPr/>
            <p:nvPr/>
          </p:nvGrpSpPr>
          <p:grpSpPr>
            <a:xfrm>
              <a:off x="2466360" y="4924800"/>
              <a:ext cx="124560" cy="639000"/>
              <a:chOff x="2466360" y="4924800"/>
              <a:chExt cx="124560" cy="639000"/>
            </a:xfrm>
          </p:grpSpPr>
          <p:pic>
            <p:nvPicPr>
              <p:cNvPr id="396" name="72 Cilindro" descr=""/>
              <p:cNvPicPr/>
              <p:nvPr/>
            </p:nvPicPr>
            <p:blipFill>
              <a:blip r:embed="rId16"/>
              <a:stretch/>
            </p:blipFill>
            <p:spPr>
              <a:xfrm>
                <a:off x="2466360" y="4924800"/>
                <a:ext cx="124560" cy="6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 rot="10800000">
                <a:off x="2485080" y="4953240"/>
                <a:ext cx="8784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81 Grupo"/>
          <p:cNvGrpSpPr/>
          <p:nvPr/>
        </p:nvGrpSpPr>
        <p:grpSpPr>
          <a:xfrm>
            <a:off x="6929280" y="3643200"/>
            <a:ext cx="1090800" cy="916200"/>
            <a:chOff x="6929280" y="3643200"/>
            <a:chExt cx="1090800" cy="916200"/>
          </a:xfrm>
        </p:grpSpPr>
        <p:grpSp>
          <p:nvGrpSpPr>
            <p:cNvPr id="399" name="82 Cilindro"/>
            <p:cNvGrpSpPr/>
            <p:nvPr/>
          </p:nvGrpSpPr>
          <p:grpSpPr>
            <a:xfrm>
              <a:off x="7206480" y="3836880"/>
              <a:ext cx="778320" cy="223200"/>
              <a:chOff x="7206480" y="3836880"/>
              <a:chExt cx="778320" cy="223200"/>
            </a:xfrm>
          </p:grpSpPr>
          <p:pic>
            <p:nvPicPr>
              <p:cNvPr id="400" name="82 Cilindro" descr=""/>
              <p:cNvPicPr/>
              <p:nvPr/>
            </p:nvPicPr>
            <p:blipFill>
              <a:blip r:embed="rId17"/>
              <a:stretch/>
            </p:blipFill>
            <p:spPr>
              <a:xfrm>
                <a:off x="7206480" y="3836880"/>
                <a:ext cx="778320" cy="22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6010200">
                <a:off x="7561800" y="3584880"/>
                <a:ext cx="61560" cy="72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83 Cilindro"/>
            <p:cNvGrpSpPr/>
            <p:nvPr/>
          </p:nvGrpSpPr>
          <p:grpSpPr>
            <a:xfrm>
              <a:off x="7165080" y="3643200"/>
              <a:ext cx="778320" cy="228960"/>
              <a:chOff x="7165080" y="3643200"/>
              <a:chExt cx="778320" cy="228960"/>
            </a:xfrm>
          </p:grpSpPr>
          <p:pic>
            <p:nvPicPr>
              <p:cNvPr id="403" name="83 Cilindro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65080" y="3643200"/>
                <a:ext cx="778320" cy="22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 rot="6010200">
                <a:off x="7517160" y="3391920"/>
                <a:ext cx="61560" cy="72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84 Cilindro"/>
            <p:cNvGrpSpPr/>
            <p:nvPr/>
          </p:nvGrpSpPr>
          <p:grpSpPr>
            <a:xfrm>
              <a:off x="6952680" y="3654720"/>
              <a:ext cx="294840" cy="487440"/>
              <a:chOff x="6952680" y="3654720"/>
              <a:chExt cx="294840" cy="487440"/>
            </a:xfrm>
          </p:grpSpPr>
          <p:pic>
            <p:nvPicPr>
              <p:cNvPr id="406" name="84 Cilindro" descr=""/>
              <p:cNvPicPr/>
              <p:nvPr/>
            </p:nvPicPr>
            <p:blipFill>
              <a:blip r:embed="rId19"/>
              <a:stretch/>
            </p:blipFill>
            <p:spPr>
              <a:xfrm>
                <a:off x="6952680" y="3654720"/>
                <a:ext cx="2948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 rot="1546800">
                <a:off x="7068960" y="3672720"/>
                <a:ext cx="586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85 Cilindro"/>
            <p:cNvGrpSpPr/>
            <p:nvPr/>
          </p:nvGrpSpPr>
          <p:grpSpPr>
            <a:xfrm>
              <a:off x="6952680" y="3842640"/>
              <a:ext cx="294840" cy="487440"/>
              <a:chOff x="6952680" y="3842640"/>
              <a:chExt cx="294840" cy="487440"/>
            </a:xfrm>
          </p:grpSpPr>
          <p:pic>
            <p:nvPicPr>
              <p:cNvPr id="409" name="85 Cilindro" descr=""/>
              <p:cNvPicPr/>
              <p:nvPr/>
            </p:nvPicPr>
            <p:blipFill>
              <a:blip r:embed="rId20"/>
              <a:stretch/>
            </p:blipFill>
            <p:spPr>
              <a:xfrm>
                <a:off x="6952680" y="3842640"/>
                <a:ext cx="2948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 rot="1546800">
                <a:off x="7068960" y="3860280"/>
                <a:ext cx="586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1" name="Picture 3" descr="C:\Users\Sanjoa\AppData\Local\Microsoft\Windows\Temporary Internet Files\Content.IE5\8Y1L5Q67\MCj01229730000[1].wmf"/>
            <p:cNvPicPr/>
            <p:nvPr/>
          </p:nvPicPr>
          <p:blipFill>
            <a:blip r:embed="rId21"/>
            <a:stretch/>
          </p:blipFill>
          <p:spPr>
            <a:xfrm flipH="1">
              <a:off x="7349760" y="4141080"/>
              <a:ext cx="143280" cy="22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2" name="87 Cilindro"/>
            <p:cNvGrpSpPr/>
            <p:nvPr/>
          </p:nvGrpSpPr>
          <p:grpSpPr>
            <a:xfrm>
              <a:off x="6976440" y="4213080"/>
              <a:ext cx="778320" cy="223200"/>
              <a:chOff x="6976440" y="4213080"/>
              <a:chExt cx="778320" cy="223200"/>
            </a:xfrm>
          </p:grpSpPr>
          <p:pic>
            <p:nvPicPr>
              <p:cNvPr id="413" name="87 Cilindro" descr=""/>
              <p:cNvPicPr/>
              <p:nvPr/>
            </p:nvPicPr>
            <p:blipFill>
              <a:blip r:embed="rId22"/>
              <a:stretch/>
            </p:blipFill>
            <p:spPr>
              <a:xfrm>
                <a:off x="6976440" y="4213080"/>
                <a:ext cx="778320" cy="22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 rot="6010200">
                <a:off x="7330680" y="3960000"/>
                <a:ext cx="61560" cy="72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5" name="Picture 3" descr="C:\Users\Sanjoa\AppData\Local\Microsoft\Windows\Temporary Internet Files\Content.IE5\8Y1L5Q67\MCj01229730000[1].wmf"/>
            <p:cNvPicPr/>
            <p:nvPr/>
          </p:nvPicPr>
          <p:blipFill>
            <a:blip r:embed="rId23"/>
            <a:stretch/>
          </p:blipFill>
          <p:spPr>
            <a:xfrm flipH="1">
              <a:off x="7522920" y="4000320"/>
              <a:ext cx="14328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3" descr="C:\Users\Sanjoa\AppData\Local\Microsoft\Windows\Temporary Internet Files\Content.IE5\8Y1L5Q67\MCj01229730000[1].wmf"/>
            <p:cNvPicPr/>
            <p:nvPr/>
          </p:nvPicPr>
          <p:blipFill>
            <a:blip r:embed="rId24"/>
            <a:stretch/>
          </p:blipFill>
          <p:spPr>
            <a:xfrm>
              <a:off x="7176240" y="4000320"/>
              <a:ext cx="173160" cy="27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7" name="90 Cilindro"/>
            <p:cNvGrpSpPr/>
            <p:nvPr/>
          </p:nvGrpSpPr>
          <p:grpSpPr>
            <a:xfrm>
              <a:off x="7158960" y="3654720"/>
              <a:ext cx="105840" cy="434520"/>
              <a:chOff x="7158960" y="3654720"/>
              <a:chExt cx="105840" cy="434520"/>
            </a:xfrm>
          </p:grpSpPr>
          <p:pic>
            <p:nvPicPr>
              <p:cNvPr id="418" name="90 Cilindro" descr=""/>
              <p:cNvPicPr/>
              <p:nvPr/>
            </p:nvPicPr>
            <p:blipFill>
              <a:blip r:embed="rId25"/>
              <a:stretch/>
            </p:blipFill>
            <p:spPr>
              <a:xfrm>
                <a:off x="7158960" y="3654720"/>
                <a:ext cx="105840" cy="43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"/>
              <p:cNvSpPr/>
              <p:nvPr/>
            </p:nvSpPr>
            <p:spPr>
              <a:xfrm rot="10800000">
                <a:off x="7175880" y="3681000"/>
                <a:ext cx="7272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91 Cilindro"/>
            <p:cNvGrpSpPr/>
            <p:nvPr/>
          </p:nvGrpSpPr>
          <p:grpSpPr>
            <a:xfrm>
              <a:off x="6929280" y="4019040"/>
              <a:ext cx="778320" cy="223200"/>
              <a:chOff x="6929280" y="4019040"/>
              <a:chExt cx="778320" cy="223200"/>
            </a:xfrm>
          </p:grpSpPr>
          <p:pic>
            <p:nvPicPr>
              <p:cNvPr id="421" name="91 Cilindro" descr=""/>
              <p:cNvPicPr/>
              <p:nvPr/>
            </p:nvPicPr>
            <p:blipFill>
              <a:blip r:embed="rId26"/>
              <a:stretch/>
            </p:blipFill>
            <p:spPr>
              <a:xfrm>
                <a:off x="6929280" y="4019040"/>
                <a:ext cx="778320" cy="22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"/>
              <p:cNvSpPr/>
              <p:nvPr/>
            </p:nvSpPr>
            <p:spPr>
              <a:xfrm rot="6010200">
                <a:off x="7286040" y="3766680"/>
                <a:ext cx="61560" cy="72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92 Cilindro"/>
            <p:cNvGrpSpPr/>
            <p:nvPr/>
          </p:nvGrpSpPr>
          <p:grpSpPr>
            <a:xfrm>
              <a:off x="6929280" y="3983760"/>
              <a:ext cx="105840" cy="434520"/>
              <a:chOff x="6929280" y="3983760"/>
              <a:chExt cx="105840" cy="434520"/>
            </a:xfrm>
          </p:grpSpPr>
          <p:pic>
            <p:nvPicPr>
              <p:cNvPr id="424" name="92 Cilindro" descr=""/>
              <p:cNvPicPr/>
              <p:nvPr/>
            </p:nvPicPr>
            <p:blipFill>
              <a:blip r:embed="rId27"/>
              <a:stretch/>
            </p:blipFill>
            <p:spPr>
              <a:xfrm>
                <a:off x="6929280" y="3983760"/>
                <a:ext cx="105840" cy="43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 rot="10800000">
                <a:off x="6945120" y="4009320"/>
                <a:ext cx="7272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93 Cilindro"/>
            <p:cNvGrpSpPr/>
            <p:nvPr/>
          </p:nvGrpSpPr>
          <p:grpSpPr>
            <a:xfrm>
              <a:off x="7678080" y="3748680"/>
              <a:ext cx="294840" cy="487440"/>
              <a:chOff x="7678080" y="3748680"/>
              <a:chExt cx="294840" cy="487440"/>
            </a:xfrm>
          </p:grpSpPr>
          <p:pic>
            <p:nvPicPr>
              <p:cNvPr id="427" name="93 Cilindro" descr=""/>
              <p:cNvPicPr/>
              <p:nvPr/>
            </p:nvPicPr>
            <p:blipFill>
              <a:blip r:embed="rId28"/>
              <a:stretch/>
            </p:blipFill>
            <p:spPr>
              <a:xfrm>
                <a:off x="7678080" y="3748680"/>
                <a:ext cx="2948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 rot="1546800">
                <a:off x="7793640" y="3766320"/>
                <a:ext cx="586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94 Cilindro"/>
            <p:cNvGrpSpPr/>
            <p:nvPr/>
          </p:nvGrpSpPr>
          <p:grpSpPr>
            <a:xfrm>
              <a:off x="7684200" y="3954240"/>
              <a:ext cx="294840" cy="487440"/>
              <a:chOff x="7684200" y="3954240"/>
              <a:chExt cx="294840" cy="487440"/>
            </a:xfrm>
          </p:grpSpPr>
          <p:pic>
            <p:nvPicPr>
              <p:cNvPr id="430" name="94 Cilindro" descr=""/>
              <p:cNvPicPr/>
              <p:nvPr/>
            </p:nvPicPr>
            <p:blipFill>
              <a:blip r:embed="rId29"/>
              <a:stretch/>
            </p:blipFill>
            <p:spPr>
              <a:xfrm>
                <a:off x="7684200" y="3954240"/>
                <a:ext cx="2948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 rot="1546800">
                <a:off x="7800480" y="3971520"/>
                <a:ext cx="586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95 Cilindro"/>
            <p:cNvGrpSpPr/>
            <p:nvPr/>
          </p:nvGrpSpPr>
          <p:grpSpPr>
            <a:xfrm>
              <a:off x="7619040" y="4124880"/>
              <a:ext cx="111960" cy="434520"/>
              <a:chOff x="7619040" y="4124880"/>
              <a:chExt cx="111960" cy="434520"/>
            </a:xfrm>
          </p:grpSpPr>
          <p:pic>
            <p:nvPicPr>
              <p:cNvPr id="433" name="95 Cilindro" descr=""/>
              <p:cNvPicPr/>
              <p:nvPr/>
            </p:nvPicPr>
            <p:blipFill>
              <a:blip r:embed="rId30"/>
              <a:stretch/>
            </p:blipFill>
            <p:spPr>
              <a:xfrm>
                <a:off x="7619040" y="4124880"/>
                <a:ext cx="111960" cy="43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 rot="10800000">
                <a:off x="7637760" y="4150080"/>
                <a:ext cx="7308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96 Cilindro"/>
            <p:cNvGrpSpPr/>
            <p:nvPr/>
          </p:nvGrpSpPr>
          <p:grpSpPr>
            <a:xfrm>
              <a:off x="7908120" y="3748680"/>
              <a:ext cx="111960" cy="434520"/>
              <a:chOff x="7908120" y="3748680"/>
              <a:chExt cx="111960" cy="434520"/>
            </a:xfrm>
          </p:grpSpPr>
          <p:pic>
            <p:nvPicPr>
              <p:cNvPr id="436" name="96 Cilindro" descr=""/>
              <p:cNvPicPr/>
              <p:nvPr/>
            </p:nvPicPr>
            <p:blipFill>
              <a:blip r:embed="rId31"/>
              <a:stretch/>
            </p:blipFill>
            <p:spPr>
              <a:xfrm>
                <a:off x="7908120" y="3748680"/>
                <a:ext cx="111960" cy="43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 rot="10800000">
                <a:off x="7926840" y="3774600"/>
                <a:ext cx="7308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97 Grupo"/>
          <p:cNvGrpSpPr/>
          <p:nvPr/>
        </p:nvGrpSpPr>
        <p:grpSpPr>
          <a:xfrm>
            <a:off x="1857240" y="3786120"/>
            <a:ext cx="642960" cy="487440"/>
            <a:chOff x="1857240" y="3786120"/>
            <a:chExt cx="642960" cy="487440"/>
          </a:xfrm>
        </p:grpSpPr>
        <p:grpSp>
          <p:nvGrpSpPr>
            <p:cNvPr id="439" name="98 Cilindro"/>
            <p:cNvGrpSpPr/>
            <p:nvPr/>
          </p:nvGrpSpPr>
          <p:grpSpPr>
            <a:xfrm>
              <a:off x="2019240" y="3882240"/>
              <a:ext cx="463320" cy="141480"/>
              <a:chOff x="2019240" y="3882240"/>
              <a:chExt cx="463320" cy="141480"/>
            </a:xfrm>
          </p:grpSpPr>
          <p:pic>
            <p:nvPicPr>
              <p:cNvPr id="440" name="98 Cilindro" descr=""/>
              <p:cNvPicPr/>
              <p:nvPr/>
            </p:nvPicPr>
            <p:blipFill>
              <a:blip r:embed="rId32"/>
              <a:stretch/>
            </p:blipFill>
            <p:spPr>
              <a:xfrm>
                <a:off x="2019240" y="3882240"/>
                <a:ext cx="463320" cy="14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 rot="6010200">
                <a:off x="2232000" y="3741120"/>
                <a:ext cx="3132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99 Cilindro"/>
            <p:cNvGrpSpPr/>
            <p:nvPr/>
          </p:nvGrpSpPr>
          <p:grpSpPr>
            <a:xfrm>
              <a:off x="1990440" y="3786120"/>
              <a:ext cx="463320" cy="136080"/>
              <a:chOff x="1990440" y="3786120"/>
              <a:chExt cx="463320" cy="136080"/>
            </a:xfrm>
          </p:grpSpPr>
          <p:pic>
            <p:nvPicPr>
              <p:cNvPr id="443" name="99 Cilindro" descr=""/>
              <p:cNvPicPr/>
              <p:nvPr/>
            </p:nvPicPr>
            <p:blipFill>
              <a:blip r:embed="rId33"/>
              <a:stretch/>
            </p:blipFill>
            <p:spPr>
              <a:xfrm>
                <a:off x="1990440" y="3786120"/>
                <a:ext cx="463320" cy="13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 rot="6010200">
                <a:off x="2206080" y="3642120"/>
                <a:ext cx="3168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100 Cilindro"/>
            <p:cNvGrpSpPr/>
            <p:nvPr/>
          </p:nvGrpSpPr>
          <p:grpSpPr>
            <a:xfrm>
              <a:off x="1874520" y="3791520"/>
              <a:ext cx="173520" cy="266400"/>
              <a:chOff x="1874520" y="3791520"/>
              <a:chExt cx="173520" cy="266400"/>
            </a:xfrm>
          </p:grpSpPr>
          <p:pic>
            <p:nvPicPr>
              <p:cNvPr id="446" name="100 Cilindro" descr=""/>
              <p:cNvPicPr/>
              <p:nvPr/>
            </p:nvPicPr>
            <p:blipFill>
              <a:blip r:embed="rId34"/>
              <a:stretch/>
            </p:blipFill>
            <p:spPr>
              <a:xfrm>
                <a:off x="1874520" y="3791520"/>
                <a:ext cx="17352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 rot="1546800">
                <a:off x="1944000" y="3811320"/>
                <a:ext cx="3384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101 Cilindro"/>
            <p:cNvGrpSpPr/>
            <p:nvPr/>
          </p:nvGrpSpPr>
          <p:grpSpPr>
            <a:xfrm>
              <a:off x="1874520" y="3888000"/>
              <a:ext cx="173520" cy="266400"/>
              <a:chOff x="1874520" y="3888000"/>
              <a:chExt cx="173520" cy="266400"/>
            </a:xfrm>
          </p:grpSpPr>
          <p:pic>
            <p:nvPicPr>
              <p:cNvPr id="449" name="101 Cilindro" descr=""/>
              <p:cNvPicPr/>
              <p:nvPr/>
            </p:nvPicPr>
            <p:blipFill>
              <a:blip r:embed="rId35"/>
              <a:stretch/>
            </p:blipFill>
            <p:spPr>
              <a:xfrm>
                <a:off x="1874520" y="3888000"/>
                <a:ext cx="17352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1546800">
                <a:off x="1944000" y="3907800"/>
                <a:ext cx="3384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1" name="Picture 3" descr="C:\Users\Sanjoa\AppData\Local\Microsoft\Windows\Temporary Internet Files\Content.IE5\8Y1L5Q67\MCj01229730000[1].wmf"/>
            <p:cNvPicPr/>
            <p:nvPr/>
          </p:nvPicPr>
          <p:blipFill>
            <a:blip r:embed="rId36"/>
            <a:stretch/>
          </p:blipFill>
          <p:spPr>
            <a:xfrm flipH="1">
              <a:off x="2107080" y="4051440"/>
              <a:ext cx="82800" cy="11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2" name="103 Cilindro"/>
            <p:cNvGrpSpPr/>
            <p:nvPr/>
          </p:nvGrpSpPr>
          <p:grpSpPr>
            <a:xfrm>
              <a:off x="1886040" y="4075200"/>
              <a:ext cx="463320" cy="141480"/>
              <a:chOff x="1886040" y="4075200"/>
              <a:chExt cx="463320" cy="141480"/>
            </a:xfrm>
          </p:grpSpPr>
          <p:pic>
            <p:nvPicPr>
              <p:cNvPr id="453" name="103 Cilindro" descr=""/>
              <p:cNvPicPr/>
              <p:nvPr/>
            </p:nvPicPr>
            <p:blipFill>
              <a:blip r:embed="rId37"/>
              <a:stretch/>
            </p:blipFill>
            <p:spPr>
              <a:xfrm>
                <a:off x="1886040" y="4075200"/>
                <a:ext cx="463320" cy="14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"/>
              <p:cNvSpPr/>
              <p:nvPr/>
            </p:nvSpPr>
            <p:spPr>
              <a:xfrm rot="6010200">
                <a:off x="2098080" y="3933720"/>
                <a:ext cx="3132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5" name="Picture 3" descr="C:\Users\Sanjoa\AppData\Local\Microsoft\Windows\Temporary Internet Files\Content.IE5\8Y1L5Q67\MCj01229730000[1].wmf"/>
            <p:cNvPicPr/>
            <p:nvPr/>
          </p:nvPicPr>
          <p:blipFill>
            <a:blip r:embed="rId38"/>
            <a:stretch/>
          </p:blipFill>
          <p:spPr>
            <a:xfrm flipH="1">
              <a:off x="2207520" y="3979080"/>
              <a:ext cx="82800" cy="1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3" descr="C:\Users\Sanjoa\AppData\Local\Microsoft\Windows\Temporary Internet Files\Content.IE5\8Y1L5Q67\MCj01229730000[1].wmf"/>
            <p:cNvPicPr/>
            <p:nvPr/>
          </p:nvPicPr>
          <p:blipFill>
            <a:blip r:embed="rId39"/>
            <a:stretch/>
          </p:blipFill>
          <p:spPr>
            <a:xfrm>
              <a:off x="2006640" y="3979080"/>
              <a:ext cx="100080" cy="13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7" name="106 Cilindro"/>
            <p:cNvGrpSpPr/>
            <p:nvPr/>
          </p:nvGrpSpPr>
          <p:grpSpPr>
            <a:xfrm>
              <a:off x="1990440" y="3791520"/>
              <a:ext cx="75240" cy="243720"/>
              <a:chOff x="1990440" y="3791520"/>
              <a:chExt cx="75240" cy="243720"/>
            </a:xfrm>
          </p:grpSpPr>
          <p:pic>
            <p:nvPicPr>
              <p:cNvPr id="458" name="106 Cilindro" descr=""/>
              <p:cNvPicPr/>
              <p:nvPr/>
            </p:nvPicPr>
            <p:blipFill>
              <a:blip r:embed="rId40"/>
              <a:stretch/>
            </p:blipFill>
            <p:spPr>
              <a:xfrm>
                <a:off x="1990440" y="3791520"/>
                <a:ext cx="7524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 rot="10800000">
                <a:off x="2006280" y="3815280"/>
                <a:ext cx="4212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107 Cilindro"/>
            <p:cNvGrpSpPr/>
            <p:nvPr/>
          </p:nvGrpSpPr>
          <p:grpSpPr>
            <a:xfrm>
              <a:off x="1857240" y="3978720"/>
              <a:ext cx="463320" cy="136080"/>
              <a:chOff x="1857240" y="3978720"/>
              <a:chExt cx="463320" cy="136080"/>
            </a:xfrm>
          </p:grpSpPr>
          <p:pic>
            <p:nvPicPr>
              <p:cNvPr id="461" name="107 Cilindro" descr=""/>
              <p:cNvPicPr/>
              <p:nvPr/>
            </p:nvPicPr>
            <p:blipFill>
              <a:blip r:embed="rId41"/>
              <a:stretch/>
            </p:blipFill>
            <p:spPr>
              <a:xfrm>
                <a:off x="1857240" y="3978720"/>
                <a:ext cx="463320" cy="13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 rot="6010200">
                <a:off x="2072160" y="3834360"/>
                <a:ext cx="3168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108 Cilindro"/>
            <p:cNvGrpSpPr/>
            <p:nvPr/>
          </p:nvGrpSpPr>
          <p:grpSpPr>
            <a:xfrm>
              <a:off x="1857240" y="3961800"/>
              <a:ext cx="75240" cy="237960"/>
              <a:chOff x="1857240" y="3961800"/>
              <a:chExt cx="75240" cy="237960"/>
            </a:xfrm>
          </p:grpSpPr>
          <p:pic>
            <p:nvPicPr>
              <p:cNvPr id="464" name="108 Cilindro" descr=""/>
              <p:cNvPicPr/>
              <p:nvPr/>
            </p:nvPicPr>
            <p:blipFill>
              <a:blip r:embed="rId42"/>
              <a:stretch/>
            </p:blipFill>
            <p:spPr>
              <a:xfrm>
                <a:off x="1857240" y="3961800"/>
                <a:ext cx="75240" cy="23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 rot="10800000">
                <a:off x="1872360" y="3984120"/>
                <a:ext cx="4212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109 Cilindro"/>
            <p:cNvGrpSpPr/>
            <p:nvPr/>
          </p:nvGrpSpPr>
          <p:grpSpPr>
            <a:xfrm>
              <a:off x="2297520" y="3842640"/>
              <a:ext cx="173520" cy="266400"/>
              <a:chOff x="2297520" y="3842640"/>
              <a:chExt cx="173520" cy="266400"/>
            </a:xfrm>
          </p:grpSpPr>
          <p:pic>
            <p:nvPicPr>
              <p:cNvPr id="467" name="109 Cilindro" descr=""/>
              <p:cNvPicPr/>
              <p:nvPr/>
            </p:nvPicPr>
            <p:blipFill>
              <a:blip r:embed="rId43"/>
              <a:stretch/>
            </p:blipFill>
            <p:spPr>
              <a:xfrm>
                <a:off x="2297520" y="3842640"/>
                <a:ext cx="17352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 rot="1546800">
                <a:off x="2363760" y="3859560"/>
                <a:ext cx="3384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110 Cilindro"/>
            <p:cNvGrpSpPr/>
            <p:nvPr/>
          </p:nvGrpSpPr>
          <p:grpSpPr>
            <a:xfrm>
              <a:off x="2297520" y="3944880"/>
              <a:ext cx="173520" cy="266400"/>
              <a:chOff x="2297520" y="3944880"/>
              <a:chExt cx="173520" cy="266400"/>
            </a:xfrm>
          </p:grpSpPr>
          <p:pic>
            <p:nvPicPr>
              <p:cNvPr id="470" name="110 Cilindro" descr=""/>
              <p:cNvPicPr/>
              <p:nvPr/>
            </p:nvPicPr>
            <p:blipFill>
              <a:blip r:embed="rId44"/>
              <a:stretch/>
            </p:blipFill>
            <p:spPr>
              <a:xfrm>
                <a:off x="2297520" y="3944880"/>
                <a:ext cx="17352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"/>
              <p:cNvSpPr/>
              <p:nvPr/>
            </p:nvSpPr>
            <p:spPr>
              <a:xfrm rot="1546800">
                <a:off x="2367720" y="3965040"/>
                <a:ext cx="3384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111 Cilindro"/>
            <p:cNvGrpSpPr/>
            <p:nvPr/>
          </p:nvGrpSpPr>
          <p:grpSpPr>
            <a:xfrm>
              <a:off x="2256840" y="4035600"/>
              <a:ext cx="75240" cy="237960"/>
              <a:chOff x="2256840" y="4035600"/>
              <a:chExt cx="75240" cy="237960"/>
            </a:xfrm>
          </p:grpSpPr>
          <p:pic>
            <p:nvPicPr>
              <p:cNvPr id="473" name="111 Cilindro" descr=""/>
              <p:cNvPicPr/>
              <p:nvPr/>
            </p:nvPicPr>
            <p:blipFill>
              <a:blip r:embed="rId45"/>
              <a:stretch/>
            </p:blipFill>
            <p:spPr>
              <a:xfrm>
                <a:off x="2256840" y="4035600"/>
                <a:ext cx="75240" cy="23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 rot="10800000">
                <a:off x="2273760" y="4056480"/>
                <a:ext cx="4212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112 Cilindro"/>
            <p:cNvGrpSpPr/>
            <p:nvPr/>
          </p:nvGrpSpPr>
          <p:grpSpPr>
            <a:xfrm>
              <a:off x="2424960" y="3842640"/>
              <a:ext cx="75240" cy="237960"/>
              <a:chOff x="2424960" y="3842640"/>
              <a:chExt cx="75240" cy="237960"/>
            </a:xfrm>
          </p:grpSpPr>
          <p:pic>
            <p:nvPicPr>
              <p:cNvPr id="476" name="112 Cilindro" descr=""/>
              <p:cNvPicPr/>
              <p:nvPr/>
            </p:nvPicPr>
            <p:blipFill>
              <a:blip r:embed="rId46"/>
              <a:stretch/>
            </p:blipFill>
            <p:spPr>
              <a:xfrm>
                <a:off x="2424960" y="3842640"/>
                <a:ext cx="75240" cy="23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 rot="10800000">
                <a:off x="2441160" y="3863520"/>
                <a:ext cx="4212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9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6 Rectángulo"/>
            <p:cNvSpPr/>
            <p:nvPr/>
          </p:nvSpPr>
          <p:spPr>
            <a:xfrm>
              <a:off x="64800" y="77760"/>
              <a:ext cx="9001440" cy="671544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14 CuadroTexto"/>
          <p:cNvSpPr/>
          <p:nvPr/>
        </p:nvSpPr>
        <p:spPr>
          <a:xfrm>
            <a:off x="252360" y="4645080"/>
            <a:ext cx="87868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i no aparecen plántulas en ninguno de los dos experimentos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Garamond"/>
              </a:rPr>
              <a:t>Hipótesis 2c.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as semillas no germinan debido a la alteración de las condiciones del 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Actuación: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TRASLOCACIÓN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  RE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zona menos antropiz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7 Rectángulo"/>
          <p:cNvSpPr/>
          <p:nvPr/>
        </p:nvSpPr>
        <p:spPr>
          <a:xfrm>
            <a:off x="214200" y="1149480"/>
            <a:ext cx="878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i aparecen plántulas en el experimento 1 (barrera de retención)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Se verifica la </a:t>
            </a:r>
            <a:r>
              <a:rPr b="0" lang="es-ES" sz="2000" spc="-1" strike="noStrike">
                <a:solidFill>
                  <a:srgbClr val="ffff00"/>
                </a:solidFill>
                <a:latin typeface="Garamond"/>
              </a:rPr>
              <a:t>Hipótesis 2a.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as plántulas no se instalan por exceso de pendiente (las semillas son arrastra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Actuación: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TRASLOCACIÓN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REINTRODUC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zona con menor pendient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8 Rectángulo"/>
          <p:cNvSpPr/>
          <p:nvPr/>
        </p:nvSpPr>
        <p:spPr>
          <a:xfrm>
            <a:off x="214200" y="3060720"/>
            <a:ext cx="87868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i aparecen plántulas en el experimento 2 (vallado)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Se verifica la </a:t>
            </a:r>
            <a:r>
              <a:rPr b="0" lang="es-ES" sz="2000" spc="-1" strike="noStrike">
                <a:solidFill>
                  <a:srgbClr val="ffff00"/>
                </a:solidFill>
                <a:latin typeface="Garamond"/>
              </a:rPr>
              <a:t>Hipótesis 2b.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as plántulas no se desarrollan debido a la herbivoría, recolección y pisot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Actuación: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REFUER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6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6 Rectángulo"/>
            <p:cNvSpPr/>
            <p:nvPr/>
          </p:nvSpPr>
          <p:spPr>
            <a:xfrm>
              <a:off x="64800" y="77760"/>
              <a:ext cx="9001440" cy="671544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6. Tipo de Restitución a realiz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14 CuadroTexto"/>
          <p:cNvSpPr/>
          <p:nvPr/>
        </p:nvSpPr>
        <p:spPr>
          <a:xfrm>
            <a:off x="214200" y="1643040"/>
            <a:ext cx="8786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upongamos que la </a:t>
            </a:r>
            <a:r>
              <a:rPr b="0" lang="es-ES" sz="2000" spc="-1" strike="noStrike">
                <a:solidFill>
                  <a:srgbClr val="ffff00"/>
                </a:solidFill>
                <a:latin typeface="Garamond"/>
              </a:rPr>
              <a:t>Hipótesis 2a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las plántulas no se instalan por exceso de pendiente) queda verificada con los experimentos realiz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Actuación: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REINTRODUCCIÓN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n un área con menor pendiente donde las semillas de los individuos no sean arrastradas, y donde éstas puedan germinar, instalarse  y desarrolla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1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6 Rectángulo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7. OBJE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42920" y="145908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aramond"/>
              </a:rPr>
              <a:t>Objetivo gene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ablecer una nueva población autosostenible dentro de su rango de distribución histór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aramond"/>
              </a:rPr>
              <a:t>Objetivos cuantificab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lcanzar una población mínima viable (500 individuos) en 3 años, con una tendencia demográfica estable, distribuidos en un área de 1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antener un tamaño poblacional no inferior a 600 individuos entre los años 4 y 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6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1720" y="500040"/>
            <a:ext cx="8715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8. SELECCIÓN DE LA LOCA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85840" y="157176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aramond"/>
              </a:rPr>
              <a:t>Criteri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Área con pendiente entre 20-25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Hábitat compat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Que se encuentre a menos de 500 m de la población actu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Área que permita su administración y gest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Que se encuentre lo menos antropizada pos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Que no exista </a:t>
            </a:r>
            <a:r>
              <a:rPr b="0" i="1" lang="es-ES" sz="2400" spc="-1" strike="noStrike">
                <a:solidFill>
                  <a:srgbClr val="ffffff"/>
                </a:solidFill>
                <a:latin typeface="Garamond"/>
              </a:rPr>
              <a:t>Selseria insularis </a:t>
            </a:r>
            <a:r>
              <a:rPr b="0" i="1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roblema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1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6 Rectángulo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80960" y="-79200"/>
            <a:ext cx="8715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8. SELECCIÓN DE LA LOCA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4" name="27 Grupo"/>
          <p:cNvGrpSpPr/>
          <p:nvPr/>
        </p:nvGrpSpPr>
        <p:grpSpPr>
          <a:xfrm>
            <a:off x="4344840" y="781200"/>
            <a:ext cx="5222880" cy="4683960"/>
            <a:chOff x="4344840" y="781200"/>
            <a:chExt cx="5222880" cy="4683960"/>
          </a:xfrm>
        </p:grpSpPr>
        <p:sp>
          <p:nvSpPr>
            <p:cNvPr id="505" name="26 Rectángulo"/>
            <p:cNvSpPr/>
            <p:nvPr/>
          </p:nvSpPr>
          <p:spPr>
            <a:xfrm>
              <a:off x="4441680" y="804960"/>
              <a:ext cx="4689720" cy="4572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79 Grupo"/>
            <p:cNvGrpSpPr/>
            <p:nvPr/>
          </p:nvGrpSpPr>
          <p:grpSpPr>
            <a:xfrm>
              <a:off x="4344840" y="781200"/>
              <a:ext cx="5222880" cy="4683960"/>
              <a:chOff x="4344840" y="781200"/>
              <a:chExt cx="5222880" cy="4683960"/>
            </a:xfrm>
          </p:grpSpPr>
          <p:grpSp>
            <p:nvGrpSpPr>
              <p:cNvPr id="507" name="12 Grupo"/>
              <p:cNvGrpSpPr/>
              <p:nvPr/>
            </p:nvGrpSpPr>
            <p:grpSpPr>
              <a:xfrm>
                <a:off x="4344840" y="781200"/>
                <a:ext cx="5222880" cy="4683960"/>
                <a:chOff x="4344840" y="781200"/>
                <a:chExt cx="5222880" cy="4683960"/>
              </a:xfrm>
            </p:grpSpPr>
            <p:pic>
              <p:nvPicPr>
                <p:cNvPr id="508" name="Picture 2" descr="C:\Users\Sanjoa\Desktop\area.JP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461840" y="781200"/>
                  <a:ext cx="4628520" cy="4336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09" name="11 Grupo"/>
                <p:cNvGrpSpPr/>
                <p:nvPr/>
              </p:nvGrpSpPr>
              <p:grpSpPr>
                <a:xfrm>
                  <a:off x="4344840" y="5064480"/>
                  <a:ext cx="5222880" cy="400680"/>
                  <a:chOff x="4344840" y="5064480"/>
                  <a:chExt cx="5222880" cy="400680"/>
                </a:xfrm>
              </p:grpSpPr>
              <p:sp>
                <p:nvSpPr>
                  <p:cNvPr id="510" name="3 Conector recto"/>
                  <p:cNvSpPr/>
                  <p:nvPr/>
                </p:nvSpPr>
                <p:spPr>
                  <a:xfrm>
                    <a:off x="4468320" y="5127840"/>
                    <a:ext cx="4611960" cy="1440"/>
                  </a:xfrm>
                  <a:prstGeom prst="line">
                    <a:avLst/>
                  </a:prstGeom>
                  <a:ln cap="sq"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16 Conector recto"/>
                  <p:cNvSpPr/>
                  <p:nvPr/>
                </p:nvSpPr>
                <p:spPr>
                  <a:xfrm flipH="1">
                    <a:off x="4466880" y="5064480"/>
                    <a:ext cx="1440" cy="128160"/>
                  </a:xfrm>
                  <a:prstGeom prst="line">
                    <a:avLst/>
                  </a:prstGeom>
                  <a:ln cap="sq"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17 Conector recto"/>
                  <p:cNvSpPr/>
                  <p:nvPr/>
                </p:nvSpPr>
                <p:spPr>
                  <a:xfrm flipH="1">
                    <a:off x="9091440" y="5069160"/>
                    <a:ext cx="1440" cy="128160"/>
                  </a:xfrm>
                  <a:prstGeom prst="line">
                    <a:avLst/>
                  </a:prstGeom>
                  <a:ln cap="sq"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18 Conector recto"/>
                  <p:cNvSpPr/>
                  <p:nvPr/>
                </p:nvSpPr>
                <p:spPr>
                  <a:xfrm flipH="1">
                    <a:off x="6841800" y="5064480"/>
                    <a:ext cx="1440" cy="12816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7 CuadroTexto"/>
                  <p:cNvSpPr/>
                  <p:nvPr/>
                </p:nvSpPr>
                <p:spPr>
                  <a:xfrm>
                    <a:off x="4344840" y="5127840"/>
                    <a:ext cx="5222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600" spc="-1" strike="noStrike">
                        <a:solidFill>
                          <a:srgbClr val="000000"/>
                        </a:solidFill>
                        <a:latin typeface="Calibri"/>
                      </a:rPr>
                      <a:t>0                                                0.5                                     1 Km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5" name="30 Grupo"/>
              <p:cNvGrpSpPr/>
              <p:nvPr/>
            </p:nvGrpSpPr>
            <p:grpSpPr>
              <a:xfrm>
                <a:off x="7643880" y="2176560"/>
                <a:ext cx="554040" cy="436320"/>
                <a:chOff x="7643880" y="2176560"/>
                <a:chExt cx="554040" cy="436320"/>
              </a:xfrm>
            </p:grpSpPr>
            <p:sp>
              <p:nvSpPr>
                <p:cNvPr id="516" name="11 Forma libre"/>
                <p:cNvSpPr/>
                <p:nvPr/>
              </p:nvSpPr>
              <p:spPr>
                <a:xfrm>
                  <a:off x="7643880" y="2176560"/>
                  <a:ext cx="554040" cy="436320"/>
                </a:xfrm>
                <a:prstGeom prst="pie">
                  <a:avLst/>
                </a:prstGeom>
                <a:solidFill>
                  <a:srgbClr val="ff0000">
                    <a:alpha val="64000"/>
                  </a:srgbClr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12 Conector recto"/>
                <p:cNvSpPr/>
                <p:nvPr/>
              </p:nvSpPr>
              <p:spPr>
                <a:xfrm flipV="1">
                  <a:off x="7643880" y="2253960"/>
                  <a:ext cx="25200" cy="50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8" name="91 Grupo"/>
          <p:cNvGrpSpPr/>
          <p:nvPr/>
        </p:nvGrpSpPr>
        <p:grpSpPr>
          <a:xfrm>
            <a:off x="38160" y="785880"/>
            <a:ext cx="4357800" cy="4594320"/>
            <a:chOff x="38160" y="785880"/>
            <a:chExt cx="4357800" cy="4594320"/>
          </a:xfrm>
        </p:grpSpPr>
        <p:pic>
          <p:nvPicPr>
            <p:cNvPr id="519" name="Picture 4" descr=""/>
            <p:cNvPicPr/>
            <p:nvPr/>
          </p:nvPicPr>
          <p:blipFill>
            <a:blip r:embed="rId3"/>
            <a:stretch/>
          </p:blipFill>
          <p:spPr>
            <a:xfrm>
              <a:off x="38160" y="785880"/>
              <a:ext cx="4357800" cy="459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0" name="29 Grupo"/>
            <p:cNvGrpSpPr/>
            <p:nvPr/>
          </p:nvGrpSpPr>
          <p:grpSpPr>
            <a:xfrm>
              <a:off x="2955960" y="2098800"/>
              <a:ext cx="552240" cy="438120"/>
              <a:chOff x="2955960" y="2098800"/>
              <a:chExt cx="552240" cy="438120"/>
            </a:xfrm>
          </p:grpSpPr>
          <p:sp>
            <p:nvSpPr>
              <p:cNvPr id="521" name="23 Forma libre"/>
              <p:cNvSpPr/>
              <p:nvPr/>
            </p:nvSpPr>
            <p:spPr>
              <a:xfrm>
                <a:off x="2955960" y="2098800"/>
                <a:ext cx="552240" cy="438120"/>
              </a:xfrm>
              <a:prstGeom prst="pie">
                <a:avLst/>
              </a:prstGeom>
              <a:solidFill>
                <a:srgbClr val="ff0000">
                  <a:alpha val="64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24 Conector recto"/>
              <p:cNvSpPr/>
              <p:nvPr/>
            </p:nvSpPr>
            <p:spPr>
              <a:xfrm flipV="1">
                <a:off x="2955960" y="2176200"/>
                <a:ext cx="25200" cy="5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3" name="32 CuadroTexto" descr=""/>
          <p:cNvPicPr/>
          <p:nvPr/>
        </p:nvPicPr>
        <p:blipFill>
          <a:blip r:embed="rId4"/>
          <a:stretch/>
        </p:blipFill>
        <p:spPr>
          <a:xfrm>
            <a:off x="133200" y="5546880"/>
            <a:ext cx="8729640" cy="1062000"/>
          </a:xfrm>
          <a:prstGeom prst="rect">
            <a:avLst/>
          </a:prstGeom>
          <a:ln w="0">
            <a:noFill/>
          </a:ln>
        </p:spPr>
      </p:pic>
      <p:sp>
        <p:nvSpPr>
          <p:cNvPr id="524" name="35 CuadroTexto"/>
          <p:cNvSpPr/>
          <p:nvPr/>
        </p:nvSpPr>
        <p:spPr>
          <a:xfrm>
            <a:off x="285840" y="1714680"/>
            <a:ext cx="1571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Re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36 Conector recto de flecha"/>
          <p:cNvCxnSpPr>
            <a:endCxn id="526" idx="3"/>
          </p:cNvCxnSpPr>
          <p:nvPr/>
        </p:nvCxnSpPr>
        <p:spPr>
          <a:xfrm flipV="1">
            <a:off x="1856880" y="1515600"/>
            <a:ext cx="296280" cy="199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33 Elipse"/>
          <p:cNvSpPr/>
          <p:nvPr/>
        </p:nvSpPr>
        <p:spPr>
          <a:xfrm>
            <a:off x="2077920" y="1149480"/>
            <a:ext cx="500040" cy="428400"/>
          </a:xfrm>
          <a:prstGeom prst="ellipse">
            <a:avLst/>
          </a:prstGeom>
          <a:solidFill>
            <a:srgbClr val="00b050">
              <a:alpha val="68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35 Elipse"/>
          <p:cNvSpPr/>
          <p:nvPr/>
        </p:nvSpPr>
        <p:spPr>
          <a:xfrm>
            <a:off x="6670800" y="1176480"/>
            <a:ext cx="500040" cy="428400"/>
          </a:xfrm>
          <a:prstGeom prst="ellipse">
            <a:avLst/>
          </a:prstGeom>
          <a:solidFill>
            <a:srgbClr val="00b050">
              <a:alpha val="68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35 CuadroTexto"/>
          <p:cNvSpPr/>
          <p:nvPr/>
        </p:nvSpPr>
        <p:spPr>
          <a:xfrm>
            <a:off x="4857840" y="1695600"/>
            <a:ext cx="1571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Re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40 Conector recto de flecha"/>
          <p:cNvCxnSpPr/>
          <p:nvPr/>
        </p:nvCxnSpPr>
        <p:spPr>
          <a:xfrm flipV="1">
            <a:off x="6428880" y="1496520"/>
            <a:ext cx="296280" cy="199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61720" y="51264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9. SELECCIÓN DEL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84464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aramond"/>
              </a:rPr>
              <a:t>Material genético: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 la única población exist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aramond"/>
              </a:rPr>
              <a:t>Número de Genotipos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Análisis genét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aramond"/>
              </a:rPr>
              <a:t>Número de individuos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Se determinará mediante modelización demográfica (RAMAS Ecola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aramond"/>
              </a:rPr>
              <a:t>Material de propagación: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lántu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6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7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5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8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55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Dutch801 Rm BT"/>
              </a:rPr>
              <a:t>CONTENI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040" y="1552320"/>
            <a:ext cx="80154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Localización geográf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aracterización de la espec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roblem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Hipótesis y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Tipo de Restitución a realiz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Garamond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Garamond"/>
              </a:rPr>
              <a:t>Selección de la Loca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Garamond"/>
              </a:rPr>
              <a:t>Selección del Mate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Garamond"/>
              </a:rPr>
              <a:t>Actuaciones Complemen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6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99680" y="512640"/>
            <a:ext cx="8358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10. ACTUACIONES COMPLEMENTAR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74240" y="1471680"/>
            <a:ext cx="868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Garamond"/>
              </a:rPr>
              <a:t>Conservación ex-si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Banco de semillas: Actualmente en Banco de Germoplasma del Jardín Botánico de Sòller (con posibles trazas de hibridació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tinuar con el </a:t>
            </a:r>
            <a:r>
              <a:rPr b="0" lang="es-ES" sz="2800" spc="-1" strike="noStrike">
                <a:solidFill>
                  <a:srgbClr val="ffff00"/>
                </a:solidFill>
                <a:latin typeface="Garamond"/>
              </a:rPr>
              <a:t>seguimiento de la pobl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origina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Garamond"/>
              </a:rPr>
              <a:t>Educación ambient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Reducir el riesgo de recolección, pisoteo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Reducir el riesgo de incen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2" descr="C:\Users\Sanjoa\Desktop\Fotos Puig Massanella\2008-12-05 090.JPG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7 CuadroTexto"/>
          <p:cNvSpPr/>
          <p:nvPr/>
        </p:nvSpPr>
        <p:spPr>
          <a:xfrm>
            <a:off x="1071720" y="1500120"/>
            <a:ext cx="67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Goudy Stout"/>
              </a:rPr>
              <a:t>Muchas gra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6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2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5 Rectángulo"/>
            <p:cNvSpPr/>
            <p:nvPr/>
          </p:nvSpPr>
          <p:spPr>
            <a:xfrm>
              <a:off x="214200" y="214200"/>
              <a:ext cx="878688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1. INTRODUC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5000" y="1428840"/>
            <a:ext cx="87757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i="1" lang="es-ES" sz="3200" spc="-1" strike="noStrike">
                <a:solidFill>
                  <a:srgbClr val="00b050"/>
                </a:solidFill>
                <a:latin typeface="Garamond"/>
              </a:rPr>
              <a:t>Arenaria bolosii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especie en peligro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Probabilidad de extinción en su hábitat natural de al menos el 50% en 10 años o en 3 generaciones, según criterios de la UIC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Garamond"/>
              </a:rPr>
              <a:t>Españ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    Lista Roja de Flora Vascular Españ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Catálogo Balear de Especies Amenazadas y de Especial Protección: </a:t>
            </a:r>
            <a:r>
              <a:rPr b="0" lang="es-ES" sz="2000" spc="-1" strike="noStrike">
                <a:solidFill>
                  <a:srgbClr val="ff0000"/>
                </a:solidFill>
                <a:latin typeface="Garamond"/>
              </a:rPr>
              <a:t>Vulne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Garamond"/>
              </a:rPr>
              <a:t>Internacion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ista Roja de Especies Amenazadas de la UICN: </a:t>
            </a:r>
            <a:r>
              <a:rPr b="0" lang="es-ES" sz="2000" spc="-1" strike="noStrike">
                <a:solidFill>
                  <a:srgbClr val="ff0000"/>
                </a:solidFill>
                <a:latin typeface="Garamond"/>
              </a:rPr>
              <a:t>En Peligro Crítico (C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nexos del Convenio de Berna y en la Directiva Hábi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23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7" name="16 Grupo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68" name="7 Grupo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grpSp>
              <p:nvGrpSpPr>
                <p:cNvPr id="69" name="5 Grupo"/>
                <p:cNvGrpSpPr/>
                <p:nvPr/>
              </p:nvGrpSpPr>
              <p:grpSpPr>
                <a:xfrm>
                  <a:off x="0" y="0"/>
                  <a:ext cx="9144000" cy="6858000"/>
                  <a:chOff x="0" y="0"/>
                  <a:chExt cx="9144000" cy="6858000"/>
                </a:xfrm>
              </p:grpSpPr>
              <p:pic>
                <p:nvPicPr>
                  <p:cNvPr id="70" name="Picture 2" descr="C:\Users\Sanjoa\Desktop\españa.JPG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1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2880" y="6507360"/>
                    <a:ext cx="2355480" cy="1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2" name="11 O"/>
                <p:cNvSpPr/>
                <p:nvPr/>
              </p:nvSpPr>
              <p:spPr>
                <a:xfrm>
                  <a:off x="7928280" y="3691080"/>
                  <a:ext cx="312480" cy="298440"/>
                </a:xfrm>
                <a:prstGeom prst="flowChartOr">
                  <a:avLst/>
                </a:prstGeom>
                <a:solidFill>
                  <a:srgbClr val="ff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15 CuadroTexto"/>
              <p:cNvSpPr/>
              <p:nvPr/>
            </p:nvSpPr>
            <p:spPr>
              <a:xfrm>
                <a:off x="7143840" y="3045960"/>
                <a:ext cx="1785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Garamond"/>
                  </a:rPr>
                  <a:t>Mallor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Garamond"/>
                  </a:rPr>
                  <a:t>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Garamond"/>
                  </a:rPr>
                  <a:t>(Islas Baleare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4" name="Picture 8" descr="C:\Users\Sanjoa\AppData\Local\Microsoft\Windows\Temporary Internet Files\Content.IE5\7WYB2WRT\MCNA01452_0000[1].wmf"/>
            <p:cNvPicPr/>
            <p:nvPr/>
          </p:nvPicPr>
          <p:blipFill>
            <a:blip r:embed="rId3"/>
            <a:stretch/>
          </p:blipFill>
          <p:spPr>
            <a:xfrm>
              <a:off x="428400" y="6000840"/>
              <a:ext cx="587160" cy="60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1120" y="0"/>
            <a:ext cx="8358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Dutch801 Rm BT"/>
              </a:rPr>
              <a:t>2. LOCALIZACIÓN GEOGRÁF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27 Grupo"/>
          <p:cNvGrpSpPr/>
          <p:nvPr/>
        </p:nvGrpSpPr>
        <p:grpSpPr>
          <a:xfrm>
            <a:off x="220680" y="985680"/>
            <a:ext cx="7994520" cy="5438880"/>
            <a:chOff x="220680" y="985680"/>
            <a:chExt cx="7994520" cy="5438880"/>
          </a:xfrm>
        </p:grpSpPr>
        <p:grpSp>
          <p:nvGrpSpPr>
            <p:cNvPr id="77" name="25 Grupo"/>
            <p:cNvGrpSpPr/>
            <p:nvPr/>
          </p:nvGrpSpPr>
          <p:grpSpPr>
            <a:xfrm>
              <a:off x="220680" y="985680"/>
              <a:ext cx="6652800" cy="5438880"/>
              <a:chOff x="220680" y="985680"/>
              <a:chExt cx="6652800" cy="5438880"/>
            </a:xfrm>
          </p:grpSpPr>
          <p:grpSp>
            <p:nvGrpSpPr>
              <p:cNvPr id="78" name="11 Grupo"/>
              <p:cNvGrpSpPr/>
              <p:nvPr/>
            </p:nvGrpSpPr>
            <p:grpSpPr>
              <a:xfrm>
                <a:off x="220680" y="985680"/>
                <a:ext cx="6652800" cy="5438880"/>
                <a:chOff x="220680" y="985680"/>
                <a:chExt cx="6652800" cy="5438880"/>
              </a:xfrm>
            </p:grpSpPr>
            <p:grpSp>
              <p:nvGrpSpPr>
                <p:cNvPr id="79" name="3 Grupo"/>
                <p:cNvGrpSpPr/>
                <p:nvPr/>
              </p:nvGrpSpPr>
              <p:grpSpPr>
                <a:xfrm>
                  <a:off x="220680" y="985680"/>
                  <a:ext cx="6652800" cy="5438880"/>
                  <a:chOff x="220680" y="985680"/>
                  <a:chExt cx="6652800" cy="5438880"/>
                </a:xfrm>
              </p:grpSpPr>
              <p:pic>
                <p:nvPicPr>
                  <p:cNvPr id="80" name="Picture 2" descr="C:\Users\Sanjoa\Desktop\mallorca.JPG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680" y="985680"/>
                    <a:ext cx="6652800" cy="543888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81" name="Picture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8160" y="6167880"/>
                    <a:ext cx="1591920" cy="14328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82" name="16 O"/>
                <p:cNvSpPr/>
                <p:nvPr/>
              </p:nvSpPr>
              <p:spPr>
                <a:xfrm>
                  <a:off x="2933640" y="2357280"/>
                  <a:ext cx="163440" cy="188640"/>
                </a:xfrm>
                <a:prstGeom prst="flowChartOr">
                  <a:avLst/>
                </a:prstGeom>
                <a:solidFill>
                  <a:srgbClr val="ff0000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17 Llamada de flecha hacia abajo"/>
                <p:cNvSpPr/>
                <p:nvPr/>
              </p:nvSpPr>
              <p:spPr>
                <a:xfrm>
                  <a:off x="2192400" y="1634760"/>
                  <a:ext cx="1692360" cy="680760"/>
                </a:xfrm>
                <a:prstGeom prst="downArrowCallout">
                  <a:avLst>
                    <a:gd name="adj1" fmla="val 18601"/>
                    <a:gd name="adj2" fmla="val 18610"/>
                    <a:gd name="adj3" fmla="val 25000"/>
                    <a:gd name="adj4" fmla="val 50556"/>
                  </a:avLst>
                </a:prstGeom>
                <a:solidFill>
                  <a:srgbClr val="984807">
                    <a:alpha val="84000"/>
                  </a:srgbClr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18 CuadroTexto"/>
                <p:cNvSpPr/>
                <p:nvPr/>
              </p:nvSpPr>
              <p:spPr>
                <a:xfrm>
                  <a:off x="2181240" y="1623600"/>
                  <a:ext cx="177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800" spc="-1" strike="noStrike">
                      <a:solidFill>
                        <a:srgbClr val="f2f2f2"/>
                      </a:solidFill>
                      <a:latin typeface="Calibri"/>
                    </a:rPr>
                    <a:t>Arenaria bolosi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5" name="Picture 8" descr="C:\Users\Sanjoa\AppData\Local\Microsoft\Windows\Temporary Internet Files\Content.IE5\7WYB2WRT\MCNA01452_0000[1].wmf"/>
              <p:cNvPicPr/>
              <p:nvPr/>
            </p:nvPicPr>
            <p:blipFill>
              <a:blip r:embed="rId6"/>
              <a:stretch/>
            </p:blipFill>
            <p:spPr>
              <a:xfrm>
                <a:off x="6221160" y="5772240"/>
                <a:ext cx="587160" cy="60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6" name="26 Flecha doblada"/>
            <p:cNvSpPr/>
            <p:nvPr/>
          </p:nvSpPr>
          <p:spPr>
            <a:xfrm rot="10800000">
              <a:off x="7215120" y="4286160"/>
              <a:ext cx="1000080" cy="100008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1120" y="0"/>
            <a:ext cx="8358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2. LOCALIZACIÓN GEOGRÁF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91 Grupo"/>
          <p:cNvGrpSpPr/>
          <p:nvPr/>
        </p:nvGrpSpPr>
        <p:grpSpPr>
          <a:xfrm>
            <a:off x="38160" y="720720"/>
            <a:ext cx="4357800" cy="4594320"/>
            <a:chOff x="38160" y="720720"/>
            <a:chExt cx="4357800" cy="4594320"/>
          </a:xfrm>
        </p:grpSpPr>
        <p:pic>
          <p:nvPicPr>
            <p:cNvPr id="89" name="Picture 4" descr=""/>
            <p:cNvPicPr/>
            <p:nvPr/>
          </p:nvPicPr>
          <p:blipFill>
            <a:blip r:embed="rId1"/>
            <a:stretch/>
          </p:blipFill>
          <p:spPr>
            <a:xfrm>
              <a:off x="38160" y="720720"/>
              <a:ext cx="4357800" cy="459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29 Grupo"/>
            <p:cNvGrpSpPr/>
            <p:nvPr/>
          </p:nvGrpSpPr>
          <p:grpSpPr>
            <a:xfrm>
              <a:off x="3071520" y="2033640"/>
              <a:ext cx="553680" cy="437760"/>
              <a:chOff x="3071520" y="2033640"/>
              <a:chExt cx="553680" cy="437760"/>
            </a:xfrm>
          </p:grpSpPr>
          <p:sp>
            <p:nvSpPr>
              <p:cNvPr id="91" name="94 Forma libre"/>
              <p:cNvSpPr/>
              <p:nvPr/>
            </p:nvSpPr>
            <p:spPr>
              <a:xfrm>
                <a:off x="3071520" y="2033640"/>
                <a:ext cx="553680" cy="437760"/>
              </a:xfrm>
              <a:prstGeom prst="pie">
                <a:avLst/>
              </a:prstGeom>
              <a:solidFill>
                <a:srgbClr val="ff0000">
                  <a:alpha val="64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95 Conector recto"/>
              <p:cNvSpPr/>
              <p:nvPr/>
            </p:nvSpPr>
            <p:spPr>
              <a:xfrm flipV="1">
                <a:off x="3071520" y="2111040"/>
                <a:ext cx="25200" cy="5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96 CuadroTexto"/>
          <p:cNvSpPr/>
          <p:nvPr/>
        </p:nvSpPr>
        <p:spPr>
          <a:xfrm>
            <a:off x="0" y="5329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Garamond"/>
              </a:rPr>
              <a:t>Arenaria bolosi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Garamond"/>
                <a:ea typeface="Arial"/>
              </a:rPr>
              <a:t>Localización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Macizo de Puig de Massanella (Sierra de Tramonta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Garamond"/>
                <a:ea typeface="Arial"/>
              </a:rPr>
              <a:t>Área de distribución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1 hectárea apr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Garamond"/>
                <a:ea typeface="Arial"/>
              </a:rPr>
              <a:t>Altitud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1.100-1.3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Garamond"/>
                <a:ea typeface="Arial"/>
              </a:rPr>
              <a:t>Pendiente media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C:\Users\Sanjoa\AppData\Local\Microsoft\Windows\Temporary Internet Files\Content.IE5\7WYB2WRT\MCNA01452_0000[1].wmf"/>
          <p:cNvPicPr/>
          <p:nvPr/>
        </p:nvPicPr>
        <p:blipFill>
          <a:blip r:embed="rId2"/>
          <a:stretch/>
        </p:blipFill>
        <p:spPr>
          <a:xfrm>
            <a:off x="3643200" y="4286160"/>
            <a:ext cx="587520" cy="606600"/>
          </a:xfrm>
          <a:prstGeom prst="rect">
            <a:avLst/>
          </a:prstGeom>
          <a:ln w="0">
            <a:noFill/>
          </a:ln>
        </p:spPr>
      </p:pic>
      <p:grpSp>
        <p:nvGrpSpPr>
          <p:cNvPr id="95" name="58 Grupo"/>
          <p:cNvGrpSpPr/>
          <p:nvPr/>
        </p:nvGrpSpPr>
        <p:grpSpPr>
          <a:xfrm>
            <a:off x="4344840" y="716040"/>
            <a:ext cx="5222880" cy="4682880"/>
            <a:chOff x="4344840" y="716040"/>
            <a:chExt cx="5222880" cy="4682880"/>
          </a:xfrm>
        </p:grpSpPr>
        <p:sp>
          <p:nvSpPr>
            <p:cNvPr id="96" name="78 Rectángulo"/>
            <p:cNvSpPr/>
            <p:nvPr/>
          </p:nvSpPr>
          <p:spPr>
            <a:xfrm>
              <a:off x="4441680" y="726840"/>
              <a:ext cx="4689720" cy="4572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2" descr="C:\Users\Sanjoa\Desktop\area.JPG"/>
            <p:cNvPicPr/>
            <p:nvPr/>
          </p:nvPicPr>
          <p:blipFill>
            <a:blip r:embed="rId3"/>
            <a:stretch/>
          </p:blipFill>
          <p:spPr>
            <a:xfrm>
              <a:off x="4461840" y="716040"/>
              <a:ext cx="4628520" cy="433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" name="11 Grupo"/>
            <p:cNvGrpSpPr/>
            <p:nvPr/>
          </p:nvGrpSpPr>
          <p:grpSpPr>
            <a:xfrm>
              <a:off x="4344840" y="4998600"/>
              <a:ext cx="5222880" cy="400320"/>
              <a:chOff x="4344840" y="4998600"/>
              <a:chExt cx="5222880" cy="400320"/>
            </a:xfrm>
          </p:grpSpPr>
          <p:sp>
            <p:nvSpPr>
              <p:cNvPr id="99" name="3 Conector recto"/>
              <p:cNvSpPr/>
              <p:nvPr/>
            </p:nvSpPr>
            <p:spPr>
              <a:xfrm>
                <a:off x="4468320" y="5061960"/>
                <a:ext cx="4611960" cy="1440"/>
              </a:xfrm>
              <a:prstGeom prst="line">
                <a:avLst/>
              </a:prstGeom>
              <a:ln cap="sq"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87 Conector recto"/>
              <p:cNvSpPr/>
              <p:nvPr/>
            </p:nvSpPr>
            <p:spPr>
              <a:xfrm flipH="1">
                <a:off x="4466880" y="4998600"/>
                <a:ext cx="1440" cy="12852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88 Conector recto"/>
              <p:cNvSpPr/>
              <p:nvPr/>
            </p:nvSpPr>
            <p:spPr>
              <a:xfrm flipH="1">
                <a:off x="9091440" y="5003280"/>
                <a:ext cx="1440" cy="12852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89 Conector recto"/>
              <p:cNvSpPr/>
              <p:nvPr/>
            </p:nvSpPr>
            <p:spPr>
              <a:xfrm flipH="1">
                <a:off x="6841800" y="4998600"/>
                <a:ext cx="1440" cy="128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7 CuadroTexto"/>
              <p:cNvSpPr/>
              <p:nvPr/>
            </p:nvSpPr>
            <p:spPr>
              <a:xfrm>
                <a:off x="4344840" y="5061600"/>
                <a:ext cx="5222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0                                                0.5                                     1 K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30 Grupo"/>
            <p:cNvGrpSpPr/>
            <p:nvPr/>
          </p:nvGrpSpPr>
          <p:grpSpPr>
            <a:xfrm>
              <a:off x="7643880" y="2110680"/>
              <a:ext cx="553680" cy="437760"/>
              <a:chOff x="7643880" y="2110680"/>
              <a:chExt cx="553680" cy="437760"/>
            </a:xfrm>
          </p:grpSpPr>
          <p:sp>
            <p:nvSpPr>
              <p:cNvPr id="105" name="82 Forma libre"/>
              <p:cNvSpPr/>
              <p:nvPr/>
            </p:nvSpPr>
            <p:spPr>
              <a:xfrm>
                <a:off x="7643880" y="2110680"/>
                <a:ext cx="553680" cy="437760"/>
              </a:xfrm>
              <a:prstGeom prst="pie">
                <a:avLst/>
              </a:prstGeom>
              <a:solidFill>
                <a:srgbClr val="ff0000">
                  <a:alpha val="64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83 Conector recto"/>
              <p:cNvSpPr/>
              <p:nvPr/>
            </p:nvSpPr>
            <p:spPr>
              <a:xfrm flipV="1">
                <a:off x="7643880" y="2188080"/>
                <a:ext cx="25200" cy="5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" name="Picture 8" descr="C:\Users\Sanjoa\AppData\Local\Microsoft\Windows\Temporary Internet Files\Content.IE5\7WYB2WRT\MCNA01452_0000[1].wmf"/>
            <p:cNvPicPr/>
            <p:nvPr/>
          </p:nvPicPr>
          <p:blipFill>
            <a:blip r:embed="rId4"/>
            <a:stretch/>
          </p:blipFill>
          <p:spPr>
            <a:xfrm>
              <a:off x="8429760" y="4357800"/>
              <a:ext cx="58716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99 Rectángulo"/>
          <p:cNvSpPr/>
          <p:nvPr/>
        </p:nvSpPr>
        <p:spPr>
          <a:xfrm>
            <a:off x="4777560" y="6253200"/>
            <a:ext cx="43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Garamond"/>
                <a:ea typeface="Arial"/>
              </a:rPr>
              <a:t>Población 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92 individuos aprox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0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7120" y="1076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3. CARACTERIZACIÓN DE LA ESPE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33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Garamond"/>
              </a:rPr>
              <a:t>Clasificación Taxonómic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Phyllum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TRACHEOPHY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Clase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MAGNOLIOPS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Orden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CARYOPHYLL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Familia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CARYOPHYLLACE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Género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Garamond"/>
              </a:rPr>
              <a:t>Aren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Especie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Garamond"/>
              </a:rPr>
              <a:t>Arenaria bolos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Garamond"/>
              </a:rPr>
              <a:t>Hábitat: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Taludes pedregosos poco móviles. Vertientes septentrionales. De apetencias heliófil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Garamond"/>
              </a:rPr>
              <a:t>Biotipo:</a:t>
            </a:r>
            <a:r>
              <a:rPr b="1" lang="es-ES" sz="2000" spc="-1" strike="noStrike">
                <a:solidFill>
                  <a:srgbClr val="c3d69b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Hemicriptófi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Garamond"/>
              </a:rPr>
              <a:t>Polinización:</a:t>
            </a:r>
            <a:r>
              <a:rPr b="0" lang="es-ES" sz="2000" spc="-1" strike="noStrike">
                <a:solidFill>
                  <a:srgbClr val="92d050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ntomófila generali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Garamond"/>
              </a:rPr>
              <a:t>Dispersión:</a:t>
            </a:r>
            <a:r>
              <a:rPr b="0" lang="es-ES" sz="2000" spc="-1" strike="noStrike">
                <a:solidFill>
                  <a:srgbClr val="92d050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utoco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2"/>
          <a:stretch/>
        </p:blipFill>
        <p:spPr>
          <a:xfrm>
            <a:off x="5286240" y="1071720"/>
            <a:ext cx="2592360" cy="19526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6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4. PROBLEM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7 Rectángulo"/>
          <p:cNvSpPr/>
          <p:nvPr/>
        </p:nvSpPr>
        <p:spPr>
          <a:xfrm>
            <a:off x="500040" y="135720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Reducido tamaño poblacional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92 individuos en 2001. (Posibles problemas de endogam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9 Rectángulo"/>
          <p:cNvSpPr/>
          <p:nvPr/>
        </p:nvSpPr>
        <p:spPr>
          <a:xfrm>
            <a:off x="500040" y="187164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Población envejecida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- Sin reclutamiento poblacional (en el muestreo no se encontraron plántul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10 Rectángulo"/>
          <p:cNvSpPr/>
          <p:nvPr/>
        </p:nvSpPr>
        <p:spPr>
          <a:xfrm>
            <a:off x="520560" y="2631960"/>
            <a:ext cx="826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Población estable, pero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debido a la longevidad de sus individuos (esperanza de vida de 28 años) y al alto % de supervivencia (100% para la mayoría de los in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11 Rectángulo"/>
          <p:cNvSpPr/>
          <p:nvPr/>
        </p:nvSpPr>
        <p:spPr>
          <a:xfrm>
            <a:off x="571680" y="3506760"/>
            <a:ext cx="7358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Otras amena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Alteración del hábit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Garamond"/>
                <a:ea typeface="Arial"/>
              </a:rPr>
              <a:t>Construcción de vías de acceso y tránsito de vehícu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Garamond"/>
                <a:ea typeface="Arial"/>
              </a:rPr>
              <a:t>Incendios intencionados para regenerar pa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Pas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Pisoteo: </a:t>
            </a:r>
            <a:r>
              <a:rPr b="0" lang="es-ES" sz="1600" spc="-1" strike="noStrike">
                <a:solidFill>
                  <a:srgbClr val="ffffff"/>
                </a:solidFill>
                <a:latin typeface="Garamond"/>
                <a:ea typeface="Arial"/>
              </a:rPr>
              <a:t>Excursionismo y ga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Recol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Hibridación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con </a:t>
            </a:r>
            <a:r>
              <a:rPr b="0" i="1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Arenaria grandiflora subsp.glabrescens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(depresión exogám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Competencia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con </a:t>
            </a:r>
            <a:r>
              <a:rPr b="0" i="1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Selseria insu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2 Rectángulo"/>
          <p:cNvSpPr/>
          <p:nvPr/>
        </p:nvSpPr>
        <p:spPr>
          <a:xfrm>
            <a:off x="2517480" y="6143760"/>
            <a:ext cx="49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Garamond"/>
              </a:rPr>
              <a:t>¿Por qué no existen plántu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22 Grupo"/>
          <p:cNvGrpSpPr/>
          <p:nvPr/>
        </p:nvGrpSpPr>
        <p:grpSpPr>
          <a:xfrm>
            <a:off x="3584520" y="3408480"/>
            <a:ext cx="5342040" cy="3305160"/>
            <a:chOff x="3584520" y="3408480"/>
            <a:chExt cx="5342040" cy="3305160"/>
          </a:xfrm>
        </p:grpSpPr>
        <p:grpSp>
          <p:nvGrpSpPr>
            <p:cNvPr id="125" name="21 Grupo"/>
            <p:cNvGrpSpPr/>
            <p:nvPr/>
          </p:nvGrpSpPr>
          <p:grpSpPr>
            <a:xfrm>
              <a:off x="3584520" y="3582360"/>
              <a:ext cx="5342040" cy="3131280"/>
              <a:chOff x="3584520" y="3582360"/>
              <a:chExt cx="5342040" cy="3131280"/>
            </a:xfrm>
          </p:grpSpPr>
          <p:pic>
            <p:nvPicPr>
              <p:cNvPr id="126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3584520" y="3582360"/>
                <a:ext cx="5342040" cy="259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3585240" y="6126120"/>
                <a:ext cx="2995560" cy="587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" name="Picture 5" descr=""/>
            <p:cNvPicPr/>
            <p:nvPr/>
          </p:nvPicPr>
          <p:blipFill>
            <a:blip r:embed="rId4"/>
            <a:stretch/>
          </p:blipFill>
          <p:spPr>
            <a:xfrm>
              <a:off x="5506560" y="3408480"/>
              <a:ext cx="1697400" cy="22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Sanjoa\Desktop\Fotos Puig Massanella\2008-12-05 090.JPG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6 Rectángulo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solidFill>
            <a:srgbClr val="000000">
              <a:alpha val="84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31 Grupo"/>
          <p:cNvGrpSpPr/>
          <p:nvPr/>
        </p:nvGrpSpPr>
        <p:grpSpPr>
          <a:xfrm>
            <a:off x="348840" y="1014480"/>
            <a:ext cx="7048800" cy="5572080"/>
            <a:chOff x="348840" y="1014480"/>
            <a:chExt cx="7048800" cy="5572080"/>
          </a:xfrm>
        </p:grpSpPr>
        <p:grpSp>
          <p:nvGrpSpPr>
            <p:cNvPr id="133" name="17 Grupo"/>
            <p:cNvGrpSpPr/>
            <p:nvPr/>
          </p:nvGrpSpPr>
          <p:grpSpPr>
            <a:xfrm>
              <a:off x="2685240" y="3759120"/>
              <a:ext cx="4529160" cy="1191240"/>
              <a:chOff x="2685240" y="3759120"/>
              <a:chExt cx="4529160" cy="1191240"/>
            </a:xfrm>
          </p:grpSpPr>
          <p:sp>
            <p:nvSpPr>
              <p:cNvPr id="134" name="16 Rectángulo"/>
              <p:cNvSpPr/>
              <p:nvPr/>
            </p:nvSpPr>
            <p:spPr>
              <a:xfrm>
                <a:off x="2685600" y="3759120"/>
                <a:ext cx="4443840" cy="720720"/>
              </a:xfrm>
              <a:prstGeom prst="rect">
                <a:avLst/>
              </a:prstGeom>
              <a:solidFill>
                <a:srgbClr val="4f81bd">
                  <a:alpha val="11000"/>
                </a:srgbClr>
              </a:solidFill>
              <a:ln w="25560">
                <a:solidFill>
                  <a:srgbClr val="953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6 CuadroTexto"/>
              <p:cNvSpPr/>
              <p:nvPr/>
            </p:nvSpPr>
            <p:spPr>
              <a:xfrm>
                <a:off x="2685240" y="3759120"/>
                <a:ext cx="45291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00"/>
                    </a:solidFill>
                    <a:latin typeface="Garamond"/>
                  </a:rPr>
                  <a:t>Hipótesis 2a. 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Garamond"/>
                  </a:rPr>
                  <a:t>Las plántulas no se instalan por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Garamond"/>
                  </a:rPr>
                  <a:t>exceso de pendiente (las semillas son arrastrada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39 Grupo"/>
            <p:cNvGrpSpPr/>
            <p:nvPr/>
          </p:nvGrpSpPr>
          <p:grpSpPr>
            <a:xfrm>
              <a:off x="2701440" y="5619960"/>
              <a:ext cx="4440960" cy="966600"/>
              <a:chOff x="2701440" y="5619960"/>
              <a:chExt cx="4440960" cy="966600"/>
            </a:xfrm>
          </p:grpSpPr>
          <p:sp>
            <p:nvSpPr>
              <p:cNvPr id="137" name="19 Rectángulo"/>
              <p:cNvSpPr/>
              <p:nvPr/>
            </p:nvSpPr>
            <p:spPr>
              <a:xfrm>
                <a:off x="2701440" y="5619960"/>
                <a:ext cx="4298040" cy="734760"/>
              </a:xfrm>
              <a:prstGeom prst="rect">
                <a:avLst/>
              </a:prstGeom>
              <a:solidFill>
                <a:srgbClr val="4f81bd">
                  <a:alpha val="11000"/>
                </a:srgbClr>
              </a:solidFill>
              <a:ln w="25560">
                <a:solidFill>
                  <a:srgbClr val="953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7 CuadroTexto"/>
              <p:cNvSpPr/>
              <p:nvPr/>
            </p:nvSpPr>
            <p:spPr>
              <a:xfrm>
                <a:off x="2737440" y="5669640"/>
                <a:ext cx="4404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00"/>
                    </a:solidFill>
                    <a:latin typeface="Garamond"/>
                  </a:rPr>
                  <a:t>Hipótesis 2c. 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Garamond"/>
                  </a:rPr>
                  <a:t>Las semillas no germinan debido a la alteración de las condiciones del entor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40 Grupo"/>
            <p:cNvGrpSpPr/>
            <p:nvPr/>
          </p:nvGrpSpPr>
          <p:grpSpPr>
            <a:xfrm>
              <a:off x="2685240" y="4681440"/>
              <a:ext cx="4712400" cy="950040"/>
              <a:chOff x="2685240" y="4681440"/>
              <a:chExt cx="4712400" cy="950040"/>
            </a:xfrm>
          </p:grpSpPr>
          <p:sp>
            <p:nvSpPr>
              <p:cNvPr id="140" name="18 Rectángulo"/>
              <p:cNvSpPr/>
              <p:nvPr/>
            </p:nvSpPr>
            <p:spPr>
              <a:xfrm>
                <a:off x="2685240" y="4681440"/>
                <a:ext cx="4444200" cy="734760"/>
              </a:xfrm>
              <a:prstGeom prst="rect">
                <a:avLst/>
              </a:prstGeom>
              <a:solidFill>
                <a:srgbClr val="4f81bd">
                  <a:alpha val="11000"/>
                </a:srgbClr>
              </a:solidFill>
              <a:ln w="25560">
                <a:solidFill>
                  <a:srgbClr val="953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8 CuadroTexto"/>
              <p:cNvSpPr/>
              <p:nvPr/>
            </p:nvSpPr>
            <p:spPr>
              <a:xfrm>
                <a:off x="2770560" y="4714560"/>
                <a:ext cx="4627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00"/>
                    </a:solidFill>
                    <a:latin typeface="Garamond"/>
                  </a:rPr>
                  <a:t>Hipótesis 2b. 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Garamond"/>
                  </a:rPr>
                  <a:t>Las plántulas no se desarrollan debido a la herbivoría, recolección y/o pisote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38 Grupo"/>
            <p:cNvGrpSpPr/>
            <p:nvPr/>
          </p:nvGrpSpPr>
          <p:grpSpPr>
            <a:xfrm>
              <a:off x="2274120" y="3259080"/>
              <a:ext cx="398880" cy="2808720"/>
              <a:chOff x="2274120" y="3259080"/>
              <a:chExt cx="398880" cy="2808720"/>
            </a:xfrm>
          </p:grpSpPr>
          <p:sp>
            <p:nvSpPr>
              <p:cNvPr id="143" name="24 Conector recto"/>
              <p:cNvSpPr/>
              <p:nvPr/>
            </p:nvSpPr>
            <p:spPr>
              <a:xfrm flipH="1">
                <a:off x="2274480" y="3259080"/>
                <a:ext cx="1440" cy="280836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4" name="42 Conector recto de flecha"/>
              <p:cNvCxnSpPr/>
              <p:nvPr/>
            </p:nvCxnSpPr>
            <p:spPr>
              <a:xfrm>
                <a:off x="2274480" y="6066000"/>
                <a:ext cx="398880" cy="216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45" name="29 Conector recto de flecha"/>
              <p:cNvCxnSpPr/>
              <p:nvPr/>
            </p:nvCxnSpPr>
            <p:spPr>
              <a:xfrm>
                <a:off x="2274120" y="4929120"/>
                <a:ext cx="332280" cy="216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46" name="44 Conector recto de flecha"/>
              <p:cNvCxnSpPr/>
              <p:nvPr/>
            </p:nvCxnSpPr>
            <p:spPr>
              <a:xfrm>
                <a:off x="2274120" y="4127400"/>
                <a:ext cx="332280" cy="216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147" name="45 Conector recto"/>
              <p:cNvSpPr/>
              <p:nvPr/>
            </p:nvSpPr>
            <p:spPr>
              <a:xfrm>
                <a:off x="2274480" y="3259080"/>
                <a:ext cx="133200" cy="144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4 CuadroTexto"/>
            <p:cNvSpPr/>
            <p:nvPr/>
          </p:nvSpPr>
          <p:spPr>
            <a:xfrm>
              <a:off x="2435040" y="1827000"/>
              <a:ext cx="3998880" cy="825480"/>
            </a:xfrm>
            <a:prstGeom prst="rect">
              <a:avLst/>
            </a:prstGeom>
            <a:solidFill>
              <a:srgbClr val="4f81bd">
                <a:alpha val="10000"/>
              </a:srgbClr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00"/>
                  </a:solidFill>
                  <a:latin typeface="Garamond"/>
                </a:rPr>
                <a:t>Hipótesis 1. </a:t>
              </a:r>
              <a:r>
                <a:rPr b="0" lang="es-ES" sz="2400" spc="-1" strike="noStrike">
                  <a:solidFill>
                    <a:srgbClr val="ffffff"/>
                  </a:solidFill>
                  <a:latin typeface="Garamond"/>
                </a:rPr>
                <a:t>Semillas no v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13 CuadroTexto"/>
            <p:cNvSpPr/>
            <p:nvPr/>
          </p:nvSpPr>
          <p:spPr>
            <a:xfrm>
              <a:off x="348840" y="1014480"/>
              <a:ext cx="3100680" cy="45972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Garamond"/>
                </a:rPr>
                <a:t>Hipótesis de part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78 Grupo"/>
            <p:cNvGrpSpPr/>
            <p:nvPr/>
          </p:nvGrpSpPr>
          <p:grpSpPr>
            <a:xfrm>
              <a:off x="1722240" y="1506600"/>
              <a:ext cx="453960" cy="3279960"/>
              <a:chOff x="1722240" y="1506600"/>
              <a:chExt cx="453960" cy="3279960"/>
            </a:xfrm>
          </p:grpSpPr>
          <p:sp>
            <p:nvSpPr>
              <p:cNvPr id="151" name="15 Conector recto"/>
              <p:cNvSpPr/>
              <p:nvPr/>
            </p:nvSpPr>
            <p:spPr>
              <a:xfrm flipH="1">
                <a:off x="1722240" y="1506600"/>
                <a:ext cx="1440" cy="3273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2" name="16 Conector recto de flecha"/>
              <p:cNvCxnSpPr/>
              <p:nvPr/>
            </p:nvCxnSpPr>
            <p:spPr>
              <a:xfrm>
                <a:off x="1722240" y="2116080"/>
                <a:ext cx="383040" cy="2736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53" name="17 Conector recto de flecha"/>
              <p:cNvCxnSpPr/>
              <p:nvPr/>
            </p:nvCxnSpPr>
            <p:spPr>
              <a:xfrm>
                <a:off x="1722240" y="4778280"/>
                <a:ext cx="454320" cy="864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  <p:sp>
          <p:nvSpPr>
            <p:cNvPr id="154" name="4 CuadroTexto"/>
            <p:cNvSpPr/>
            <p:nvPr/>
          </p:nvSpPr>
          <p:spPr>
            <a:xfrm>
              <a:off x="2500200" y="3071880"/>
              <a:ext cx="3641760" cy="825480"/>
            </a:xfrm>
            <a:prstGeom prst="rect">
              <a:avLst/>
            </a:prstGeom>
            <a:solidFill>
              <a:srgbClr val="4f81bd">
                <a:alpha val="10000"/>
              </a:srgbClr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00"/>
                  </a:solidFill>
                  <a:latin typeface="Garamond"/>
                </a:rPr>
                <a:t>Hipótesis 2. </a:t>
              </a:r>
              <a:r>
                <a:rPr b="0" lang="es-ES" sz="2400" spc="-1" strike="noStrike">
                  <a:solidFill>
                    <a:srgbClr val="ffffff"/>
                  </a:solidFill>
                  <a:latin typeface="Garamond"/>
                </a:rPr>
                <a:t>Semillas v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6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57 CuadroTexto"/>
          <p:cNvSpPr/>
          <p:nvPr/>
        </p:nvSpPr>
        <p:spPr>
          <a:xfrm>
            <a:off x="520560" y="2500200"/>
            <a:ext cx="31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 Germinación en labor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65 CuadroTexto"/>
          <p:cNvSpPr/>
          <p:nvPr/>
        </p:nvSpPr>
        <p:spPr>
          <a:xfrm>
            <a:off x="4235400" y="2189160"/>
            <a:ext cx="383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Éxito - </a:t>
            </a:r>
            <a:r>
              <a:rPr b="0" lang="es-ES" sz="2000" spc="-1" strike="noStrike">
                <a:solidFill>
                  <a:srgbClr val="ffff00"/>
                </a:solidFill>
                <a:latin typeface="Garamond"/>
              </a:rPr>
              <a:t>Hipótesis 2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Semillas v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66 CuadroTexto"/>
          <p:cNvSpPr/>
          <p:nvPr/>
        </p:nvSpPr>
        <p:spPr>
          <a:xfrm>
            <a:off x="4214880" y="28576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No Éxito: Semillas no v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67 Flecha a la derecha con muesca"/>
          <p:cNvSpPr/>
          <p:nvPr/>
        </p:nvSpPr>
        <p:spPr>
          <a:xfrm rot="5400000">
            <a:off x="5943240" y="4271760"/>
            <a:ext cx="708120" cy="451080"/>
          </a:xfrm>
          <a:custGeom>
            <a:avLst/>
            <a:gdLst>
              <a:gd name="textAreaLeft" fmla="*/ 112680 w 708120"/>
              <a:gd name="textAreaRight" fmla="*/ 595440 w 708120"/>
              <a:gd name="textAreaTop" fmla="*/ 112680 h 451080"/>
              <a:gd name="textAreaBottom" fmla="*/ 338400 h 45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23" y="5400"/>
                </a:lnTo>
                <a:lnTo>
                  <a:pt x="14723" y="0"/>
                </a:lnTo>
                <a:lnTo>
                  <a:pt x="21600" y="10800"/>
                </a:lnTo>
                <a:lnTo>
                  <a:pt x="14723" y="21600"/>
                </a:lnTo>
                <a:lnTo>
                  <a:pt x="14723" y="16200"/>
                </a:lnTo>
                <a:lnTo>
                  <a:pt x="0" y="16200"/>
                </a:lnTo>
                <a:lnTo>
                  <a:pt x="343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68 Flecha doblada"/>
          <p:cNvSpPr/>
          <p:nvPr/>
        </p:nvSpPr>
        <p:spPr>
          <a:xfrm flipV="1">
            <a:off x="4572000" y="3214800"/>
            <a:ext cx="500040" cy="39024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70 CuadroTexto"/>
          <p:cNvSpPr/>
          <p:nvPr/>
        </p:nvSpPr>
        <p:spPr>
          <a:xfrm>
            <a:off x="4836960" y="3286080"/>
            <a:ext cx="4286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ctuación: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HIBRID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(con</a:t>
            </a:r>
            <a:r>
              <a:rPr b="0" i="1" lang="es-ES" sz="1800" spc="-1" strike="noStrike">
                <a:solidFill>
                  <a:srgbClr val="ffffff"/>
                </a:solidFill>
                <a:latin typeface="Garamond"/>
              </a:rPr>
              <a:t> Arenaria grandiflora subsp. glabresce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85 Grupo"/>
          <p:cNvGrpSpPr/>
          <p:nvPr/>
        </p:nvGrpSpPr>
        <p:grpSpPr>
          <a:xfrm>
            <a:off x="3643200" y="2357280"/>
            <a:ext cx="572040" cy="700560"/>
            <a:chOff x="3643200" y="2357280"/>
            <a:chExt cx="572040" cy="700560"/>
          </a:xfrm>
        </p:grpSpPr>
        <p:sp>
          <p:nvSpPr>
            <p:cNvPr id="166" name="61 Conector recto"/>
            <p:cNvSpPr/>
            <p:nvPr/>
          </p:nvSpPr>
          <p:spPr>
            <a:xfrm flipV="1">
              <a:off x="3927600" y="2358720"/>
              <a:ext cx="1440" cy="355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" name="63 Conector recto de flecha"/>
            <p:cNvCxnSpPr/>
            <p:nvPr/>
          </p:nvCxnSpPr>
          <p:spPr>
            <a:xfrm>
              <a:off x="3929040" y="2357280"/>
              <a:ext cx="2800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68" name="82 Conector angular"/>
            <p:cNvCxnSpPr>
              <a:stCxn id="159" idx="3"/>
              <a:endCxn id="161" idx="1"/>
            </p:cNvCxnSpPr>
            <p:nvPr/>
          </p:nvCxnSpPr>
          <p:spPr>
            <a:xfrm>
              <a:off x="3643200" y="2700360"/>
              <a:ext cx="572400" cy="357840"/>
            </a:xfrm>
            <a:prstGeom prst="bentConnector3">
              <a:avLst>
                <a:gd name="adj1" fmla="val 49968"/>
              </a:avLst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169" name="86 CuadroTexto"/>
          <p:cNvSpPr/>
          <p:nvPr/>
        </p:nvSpPr>
        <p:spPr>
          <a:xfrm>
            <a:off x="1071720" y="4848120"/>
            <a:ext cx="664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Garamond"/>
              </a:rPr>
              <a:t>Objetivo: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Conservar parte de la riqueza genética de la espe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4 CuadroTexto"/>
          <p:cNvSpPr/>
          <p:nvPr/>
        </p:nvSpPr>
        <p:spPr>
          <a:xfrm>
            <a:off x="500040" y="1071720"/>
            <a:ext cx="4000680" cy="825480"/>
          </a:xfrm>
          <a:prstGeom prst="rect">
            <a:avLst/>
          </a:prstGeom>
          <a:solidFill>
            <a:srgbClr val="4f81bd">
              <a:alpha val="10000"/>
            </a:srgbClr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Garamond"/>
              </a:rPr>
              <a:t>Hipótesis 1.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emillas no v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20:47:16Z</dcterms:created>
  <dc:creator>Estela Barroso Corrochano</dc:creator>
  <dc:description/>
  <dc:language>en-US</dc:language>
  <cp:lastModifiedBy>Sanjoa</cp:lastModifiedBy>
  <dcterms:modified xsi:type="dcterms:W3CDTF">2009-05-01T08:13:29Z</dcterms:modified>
  <cp:revision>147</cp:revision>
  <dc:subject/>
  <dc:title>Diapositiva 1</dc:title>
</cp:coreProperties>
</file>